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5F0-A482-476B-AB94-BBD7A0084F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094-7354-467E-9360-2819F0813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3D4-57D7-476C-9973-E72D84A16D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CDC-AD7A-4DBA-8AA7-31EF7C49CE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219-AFB5-4289-8FF1-3E82500A8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9FB-1D2A-4519-82D9-1ACAA23B0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718-ECE1-4F7A-8CD3-4B80CBB7E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ED8-4CA7-4F1F-9D92-A565EE24BD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14D-688E-42B8-B092-950D49813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4BF-2CA9-49F1-B864-15F1A2FBDE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308-210D-4D97-AA37-9EABE1C5C7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29C-FCFF-40EC-B8BD-C76C2CB5C9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5400" y="88560"/>
            <a:ext cx="766584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63400" y="363348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964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24280" y="90756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500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0964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24280" y="3633480"/>
            <a:ext cx="28706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400" y="51840"/>
            <a:ext cx="76658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907560"/>
            <a:ext cx="43506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33480"/>
            <a:ext cx="89154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6400" y="0"/>
            <a:ext cx="9041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1" name=""/>
          <p:cNvSpPr/>
          <p:nvPr/>
        </p:nvSpPr>
        <p:spPr>
          <a:xfrm>
            <a:off x="536400" y="0"/>
            <a:ext cx="9041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906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21512"/>
          <a:stretch/>
        </p:blipFill>
        <p:spPr>
          <a:xfrm>
            <a:off x="7977240" y="0"/>
            <a:ext cx="1928880" cy="1135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02520" y="6324480"/>
            <a:ext cx="1287720" cy="285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TUI Airlines 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560520" y="259920"/>
            <a:ext cx="7194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n-US" sz="4000" spc="-1" strike="noStrike">
                <a:solidFill>
                  <a:srgbClr val="2a55aa"/>
                </a:solidFill>
                <a:latin typeface="TUIType"/>
              </a:rPr>
              <a:t>Click to edit the title text format</a:t>
            </a:r>
            <a:endParaRPr b="1" lang="en-US" sz="4000" spc="-1" strike="noStrike">
              <a:solidFill>
                <a:srgbClr val="2a55aa"/>
              </a:solidFill>
              <a:latin typeface="TUITyp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560160" y="1557000"/>
            <a:ext cx="8915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Aft>
                <a:spcPts val="876"/>
              </a:spcAft>
              <a:buClr>
                <a:srgbClr val="2a55aa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Click to edit the outline text format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1" marL="762120" indent="-279360">
              <a:lnSpc>
                <a:spcPct val="95000"/>
              </a:lnSpc>
              <a:spcAft>
                <a:spcPts val="876"/>
              </a:spcAft>
              <a:buClr>
                <a:srgbClr val="2a55aa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Second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2" marL="1244520" indent="-291960">
              <a:lnSpc>
                <a:spcPct val="95000"/>
              </a:lnSpc>
              <a:spcAft>
                <a:spcPts val="876"/>
              </a:spcAft>
              <a:buClr>
                <a:srgbClr val="2a55aa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Third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3" marL="1714680" indent="-279720">
              <a:lnSpc>
                <a:spcPct val="95000"/>
              </a:lnSpc>
              <a:spcAft>
                <a:spcPts val="876"/>
              </a:spcAft>
              <a:buClr>
                <a:srgbClr val="2a55aa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Fourth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4" marL="2197080" indent="-291960">
              <a:lnSpc>
                <a:spcPct val="95000"/>
              </a:lnSpc>
              <a:spcAft>
                <a:spcPts val="876"/>
              </a:spcAft>
              <a:buClr>
                <a:srgbClr val="2a55aa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Fifth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5" marL="2197080" indent="-29196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Sixth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  <a:p>
            <a:pPr lvl="6" marL="2197080" indent="-291960">
              <a:lnSpc>
                <a:spcPct val="95000"/>
              </a:lnSpc>
              <a:spcAft>
                <a:spcPts val="876"/>
              </a:spcAft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425600"/>
                <a:tab algn="l" pos="2851200"/>
                <a:tab algn="l" pos="4276800"/>
                <a:tab algn="l" pos="5702400"/>
                <a:tab algn="l" pos="7128000"/>
                <a:tab algn="l" pos="8553600"/>
                <a:tab algn="l" pos="9979200"/>
              </a:tabLst>
            </a:pPr>
            <a:r>
              <a:rPr b="1" lang="en-US" sz="2800" spc="-1" strike="noStrike">
                <a:solidFill>
                  <a:srgbClr val="2a55aa"/>
                </a:solidFill>
                <a:latin typeface="TUIType"/>
              </a:rPr>
              <a:t>Seventh Outline Level</a:t>
            </a:r>
            <a:endParaRPr b="1" lang="en-US" sz="2800" spc="-1" strike="noStrike">
              <a:solidFill>
                <a:srgbClr val="2a55aa"/>
              </a:solidFill>
              <a:latin typeface="TUI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906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102520" y="6324480"/>
            <a:ext cx="1287720" cy="2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0" b="21512"/>
          <a:stretch/>
        </p:blipFill>
        <p:spPr>
          <a:xfrm>
            <a:off x="7977240" y="0"/>
            <a:ext cx="1928880" cy="113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TUI Airlines 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3"/>
          </p:nvPr>
        </p:nvSpPr>
        <p:spPr>
          <a:xfrm>
            <a:off x="344520" y="6237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0787A8D3-1D23-4177-A11D-64FB8F275514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1208160" y="213336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n-US" sz="4000" spc="-1" strike="noStrike">
                <a:solidFill>
                  <a:srgbClr val="2a55aa"/>
                </a:solidFill>
                <a:latin typeface="TUIType"/>
              </a:rPr>
              <a:t>Click to edit the title text format</a:t>
            </a:r>
            <a:endParaRPr b="1" lang="en-US" sz="4000" spc="-1" strike="noStrike">
              <a:solidFill>
                <a:srgbClr val="2a55aa"/>
              </a:solidFill>
              <a:latin typeface="TUI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9437400" y="6498720"/>
            <a:ext cx="468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3A9F-0189-42BC-BF72-BBA3D4C7FAF7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906120" cy="633240"/>
          </a:xfrm>
          <a:prstGeom prst="rect">
            <a:avLst/>
          </a:prstGeom>
          <a:solidFill>
            <a:srgbClr val="8aafd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861320" y="17640"/>
            <a:ext cx="2044800" cy="653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95400" y="88560"/>
            <a:ext cx="7665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906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0" t="0" r="0" b="21512"/>
          <a:stretch/>
        </p:blipFill>
        <p:spPr>
          <a:xfrm>
            <a:off x="7977240" y="0"/>
            <a:ext cx="1928880" cy="1135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102520" y="6324480"/>
            <a:ext cx="128772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9437400" y="6498720"/>
            <a:ext cx="468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6FA-D87B-4327-8EF6-EFE01E1C0B25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906120" cy="633240"/>
          </a:xfrm>
          <a:prstGeom prst="rect">
            <a:avLst/>
          </a:prstGeom>
          <a:solidFill>
            <a:srgbClr val="8aafd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61320" y="17640"/>
            <a:ext cx="2044800" cy="653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title"/>
          </p:nvPr>
        </p:nvSpPr>
        <p:spPr>
          <a:xfrm>
            <a:off x="95400" y="88560"/>
            <a:ext cx="7665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906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rcRect l="0" t="0" r="0" b="21512"/>
          <a:stretch/>
        </p:blipFill>
        <p:spPr>
          <a:xfrm>
            <a:off x="7977240" y="0"/>
            <a:ext cx="1928880" cy="1135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102520" y="6324480"/>
            <a:ext cx="128772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6"/>
          </p:nvPr>
        </p:nvSpPr>
        <p:spPr>
          <a:xfrm>
            <a:off x="9437400" y="6498720"/>
            <a:ext cx="468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EB09-F1CE-4CFD-AA78-175E031DA63E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906120" cy="633240"/>
          </a:xfrm>
          <a:prstGeom prst="rect">
            <a:avLst/>
          </a:prstGeom>
          <a:solidFill>
            <a:srgbClr val="8aafd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61320" y="17640"/>
            <a:ext cx="2044800" cy="653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3"/>
          <p:cNvSpPr>
            <a:spLocks noGrp="1"/>
          </p:cNvSpPr>
          <p:nvPr>
            <p:ph type="title"/>
          </p:nvPr>
        </p:nvSpPr>
        <p:spPr>
          <a:xfrm>
            <a:off x="95400" y="88560"/>
            <a:ext cx="7665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7"/>
          </p:nvPr>
        </p:nvSpPr>
        <p:spPr>
          <a:xfrm>
            <a:off x="9437400" y="6498720"/>
            <a:ext cx="468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AAD-B55F-478A-A564-FA8D84430B2E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906120" cy="642960"/>
          </a:xfrm>
          <a:prstGeom prst="rect">
            <a:avLst/>
          </a:prstGeom>
          <a:solidFill>
            <a:srgbClr val="ffffff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95400" y="88560"/>
            <a:ext cx="7665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13680" y="561960"/>
            <a:ext cx="22701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324560" y="114480"/>
            <a:ext cx="2082960" cy="66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673200"/>
            <a:ext cx="9906120" cy="0"/>
          </a:xfrm>
          <a:prstGeom prst="line">
            <a:avLst/>
          </a:prstGeom>
          <a:ln w="9360">
            <a:solidFill>
              <a:srgbClr val="00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95000" y="907560"/>
            <a:ext cx="8915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8"/>
          </p:nvPr>
        </p:nvSpPr>
        <p:spPr>
          <a:xfrm>
            <a:off x="9437400" y="6498720"/>
            <a:ext cx="468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F76A-2B2D-4B62-B036-CE37B602C52A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title"/>
          </p:nvPr>
        </p:nvSpPr>
        <p:spPr>
          <a:xfrm>
            <a:off x="95400" y="88560"/>
            <a:ext cx="7665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602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267" name=""/>
          <p:cNvSpPr/>
          <p:nvPr/>
        </p:nvSpPr>
        <p:spPr>
          <a:xfrm>
            <a:off x="7176960" y="619200"/>
            <a:ext cx="635040" cy="1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265880" y="61920"/>
            <a:ext cx="2305080" cy="74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737mrg.net/downloads/ppviewer.exe" TargetMode="External"/><Relationship Id="rId2" Type="http://schemas.openxmlformats.org/officeDocument/2006/relationships/hyperlink" Target="http://www.b737mrg.net/downloads/ppviewer.exe" TargetMode="External"/><Relationship Id="rId3" Type="http://schemas.openxmlformats.org/officeDocument/2006/relationships/hyperlink" Target="http://www.b737mrg.net/downloads/ppviewer.exe" TargetMode="External"/><Relationship Id="rId4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451400" y="6188040"/>
            <a:ext cx="5197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Captain Pat BOONE – Version 1.1  - July 30, 2007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This presentation requires  Microsoft Powerpoint 2003-XP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06" name=""/>
          <p:cNvSpPr/>
          <p:nvPr/>
        </p:nvSpPr>
        <p:spPr>
          <a:xfrm>
            <a:off x="1285920" y="2314440"/>
            <a:ext cx="7602480" cy="137952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oduction to the B737-NG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ertical Situation Display (VSD)</a:t>
            </a:r>
            <a:endParaRPr b="0" lang="en-US" sz="3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07" name=""/>
          <p:cNvSpPr/>
          <p:nvPr/>
        </p:nvSpPr>
        <p:spPr>
          <a:xfrm>
            <a:off x="263520" y="4210200"/>
            <a:ext cx="4863960" cy="2385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This presentation requires Microsoft</a:t>
            </a:r>
            <a:r>
              <a:rPr b="1" lang="en-US" sz="1200" spc="-1" strike="noStrike" baseline="30000">
                <a:solidFill>
                  <a:srgbClr val="333399"/>
                </a:solidFill>
                <a:latin typeface="Arial"/>
              </a:rPr>
              <a:t>®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PowerPoint 2003</a:t>
            </a:r>
            <a:r>
              <a:rPr b="1" lang="en-US" sz="1200" spc="-1" strike="noStrike" baseline="30000">
                <a:solidFill>
                  <a:srgbClr val="333399"/>
                </a:solidFill>
                <a:latin typeface="Arial"/>
              </a:rPr>
              <a:t>®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or XP</a:t>
            </a:r>
            <a:r>
              <a:rPr b="1" lang="en-US" sz="1200" spc="-1" strike="noStrike" baseline="30000">
                <a:solidFill>
                  <a:srgbClr val="333399"/>
                </a:solidFill>
                <a:latin typeface="Arial"/>
              </a:rPr>
              <a:t>®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1200"/>
            </a:br>
            <a:br>
              <a:rPr sz="9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Animation will be incorrect and part of the text will be unreadable when using an earlier version of PowerPoint.</a:t>
            </a:r>
            <a:br>
              <a:rPr sz="900"/>
            </a:br>
            <a:br>
              <a:rPr sz="4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You can download and install the free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S PowerPoint 2003 Viewer</a:t>
            </a:r>
            <a:r>
              <a:rPr b="0" lang="en-US" sz="900" spc="-1" strike="noStrike" u="sng" baseline="30000">
                <a:solidFill>
                  <a:srgbClr val="009999"/>
                </a:solidFill>
                <a:uFillTx/>
                <a:latin typeface="Arial"/>
                <a:hlinkClick r:id="rId2"/>
              </a:rPr>
              <a:t>®</a:t>
            </a:r>
            <a:r>
              <a:rPr b="0" lang="en-US" sz="900" spc="-1" strike="noStrike" u="sng" baseline="30000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br>
              <a:rPr sz="900"/>
            </a:br>
            <a:br>
              <a:rPr sz="4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is free Viewer allows you to view all presentations created by PowerPoint 97 till 2003 </a:t>
            </a:r>
            <a:br>
              <a:rPr sz="9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ithout interference to another PowerPoint development program installed on your PC.</a:t>
            </a:r>
            <a:br>
              <a:rPr sz="900"/>
            </a:br>
            <a:r>
              <a:rPr b="0" lang="en-US" sz="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7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e Viewer is supported by Windows 2000 SP3 – Windows XP – Windows ME – </a:t>
            </a:r>
            <a:br>
              <a:rPr sz="9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indows 98 SE (requires computer restart) – Windows Server 2003</a:t>
            </a:r>
            <a:br>
              <a:rPr sz="900"/>
            </a:br>
            <a:br>
              <a:rPr sz="4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If you have another PowerPoint development program installed on your computer, this program will take precedence to the MS PowerPoint 2003 Viewer.  Therefore, you must :</a:t>
            </a:r>
            <a:br>
              <a:rPr sz="900"/>
            </a:br>
            <a:br>
              <a:rPr sz="4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1- download this presentation to your computer</a:t>
            </a:r>
            <a:br>
              <a:rPr sz="900"/>
            </a:b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2- from the 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Start Menu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under 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All Programs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, open the 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Microsoft Office PowerPoint</a:t>
            </a:r>
            <a:br>
              <a:rPr sz="900"/>
            </a:b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     Viewer 2003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 and open this presentation file.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9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0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1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2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3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4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5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6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7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8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99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0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6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7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8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10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11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613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16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17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18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0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Terrain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4" name=""/>
          <p:cNvSpPr/>
          <p:nvPr/>
        </p:nvSpPr>
        <p:spPr>
          <a:xfrm>
            <a:off x="293760" y="42228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Terrain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5" name=""/>
          <p:cNvSpPr/>
          <p:nvPr/>
        </p:nvSpPr>
        <p:spPr>
          <a:xfrm>
            <a:off x="3368520" y="27813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6" name=""/>
          <p:cNvSpPr/>
          <p:nvPr/>
        </p:nvSpPr>
        <p:spPr>
          <a:xfrm>
            <a:off x="3297240" y="30686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7" name=""/>
          <p:cNvSpPr/>
          <p:nvPr/>
        </p:nvSpPr>
        <p:spPr>
          <a:xfrm>
            <a:off x="3368520" y="3357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8" name=""/>
          <p:cNvSpPr/>
          <p:nvPr/>
        </p:nvSpPr>
        <p:spPr>
          <a:xfrm>
            <a:off x="3297240" y="3645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29" name=""/>
          <p:cNvSpPr/>
          <p:nvPr/>
        </p:nvSpPr>
        <p:spPr>
          <a:xfrm>
            <a:off x="3368520" y="3933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30" name=""/>
          <p:cNvSpPr/>
          <p:nvPr/>
        </p:nvSpPr>
        <p:spPr>
          <a:xfrm>
            <a:off x="3297240" y="4221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31" name=""/>
          <p:cNvSpPr/>
          <p:nvPr/>
        </p:nvSpPr>
        <p:spPr>
          <a:xfrm>
            <a:off x="3336840" y="2484360"/>
            <a:ext cx="122400" cy="21276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lnTo>
                  <a:pt x="91" y="0"/>
                </a:lnTo>
                <a:lnTo>
                  <a:pt x="91" y="181"/>
                </a:lnTo>
                <a:lnTo>
                  <a:pt x="0" y="181"/>
                </a:lnTo>
                <a:lnTo>
                  <a:pt x="0" y="154"/>
                </a:lnTo>
                <a:lnTo>
                  <a:pt x="77" y="91"/>
                </a:lnTo>
                <a:lnTo>
                  <a:pt x="0" y="2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32" name=""/>
          <p:cNvSpPr/>
          <p:nvPr/>
        </p:nvSpPr>
        <p:spPr>
          <a:xfrm>
            <a:off x="3627360" y="368460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160880" y="3205080"/>
            <a:ext cx="170820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460680" y="3906720"/>
            <a:ext cx="4229280" cy="331920"/>
            <a:chOff x="3460680" y="3906720"/>
            <a:chExt cx="4229280" cy="331920"/>
          </a:xfrm>
        </p:grpSpPr>
        <p:sp>
          <p:nvSpPr>
            <p:cNvPr id="635" name=""/>
            <p:cNvSpPr/>
            <p:nvPr/>
          </p:nvSpPr>
          <p:spPr>
            <a:xfrm>
              <a:off x="3460680" y="3906720"/>
              <a:ext cx="4229280" cy="309960"/>
            </a:xfrm>
            <a:custGeom>
              <a:avLst/>
              <a:gdLst/>
              <a:ahLst/>
              <a:rect l="l" t="t" r="r" b="b"/>
              <a:pathLst>
                <a:path w="2664" h="745">
                  <a:moveTo>
                    <a:pt x="0" y="745"/>
                  </a:moveTo>
                  <a:lnTo>
                    <a:pt x="424" y="745"/>
                  </a:lnTo>
                  <a:cubicBezTo>
                    <a:pt x="448" y="729"/>
                    <a:pt x="471" y="730"/>
                    <a:pt x="496" y="717"/>
                  </a:cubicBezTo>
                  <a:cubicBezTo>
                    <a:pt x="519" y="706"/>
                    <a:pt x="540" y="697"/>
                    <a:pt x="564" y="689"/>
                  </a:cubicBezTo>
                  <a:cubicBezTo>
                    <a:pt x="598" y="696"/>
                    <a:pt x="619" y="706"/>
                    <a:pt x="656" y="709"/>
                  </a:cubicBezTo>
                  <a:cubicBezTo>
                    <a:pt x="681" y="717"/>
                    <a:pt x="706" y="723"/>
                    <a:pt x="732" y="729"/>
                  </a:cubicBezTo>
                  <a:cubicBezTo>
                    <a:pt x="783" y="726"/>
                    <a:pt x="790" y="731"/>
                    <a:pt x="824" y="709"/>
                  </a:cubicBezTo>
                  <a:cubicBezTo>
                    <a:pt x="838" y="687"/>
                    <a:pt x="860" y="686"/>
                    <a:pt x="884" y="681"/>
                  </a:cubicBezTo>
                  <a:cubicBezTo>
                    <a:pt x="948" y="685"/>
                    <a:pt x="976" y="689"/>
                    <a:pt x="1040" y="685"/>
                  </a:cubicBezTo>
                  <a:cubicBezTo>
                    <a:pt x="1062" y="671"/>
                    <a:pt x="1067" y="646"/>
                    <a:pt x="1084" y="629"/>
                  </a:cubicBezTo>
                  <a:cubicBezTo>
                    <a:pt x="1103" y="610"/>
                    <a:pt x="1125" y="592"/>
                    <a:pt x="1144" y="573"/>
                  </a:cubicBezTo>
                  <a:cubicBezTo>
                    <a:pt x="1176" y="541"/>
                    <a:pt x="1198" y="502"/>
                    <a:pt x="1236" y="477"/>
                  </a:cubicBezTo>
                  <a:cubicBezTo>
                    <a:pt x="1264" y="435"/>
                    <a:pt x="1333" y="464"/>
                    <a:pt x="1380" y="457"/>
                  </a:cubicBezTo>
                  <a:cubicBezTo>
                    <a:pt x="1396" y="458"/>
                    <a:pt x="1413" y="456"/>
                    <a:pt x="1428" y="461"/>
                  </a:cubicBezTo>
                  <a:cubicBezTo>
                    <a:pt x="1440" y="465"/>
                    <a:pt x="1453" y="489"/>
                    <a:pt x="1464" y="497"/>
                  </a:cubicBezTo>
                  <a:cubicBezTo>
                    <a:pt x="1472" y="496"/>
                    <a:pt x="1481" y="497"/>
                    <a:pt x="1488" y="493"/>
                  </a:cubicBezTo>
                  <a:cubicBezTo>
                    <a:pt x="1515" y="475"/>
                    <a:pt x="1499" y="431"/>
                    <a:pt x="1516" y="409"/>
                  </a:cubicBezTo>
                  <a:cubicBezTo>
                    <a:pt x="1529" y="393"/>
                    <a:pt x="1546" y="377"/>
                    <a:pt x="1564" y="365"/>
                  </a:cubicBezTo>
                  <a:cubicBezTo>
                    <a:pt x="1579" y="343"/>
                    <a:pt x="1607" y="327"/>
                    <a:pt x="1616" y="301"/>
                  </a:cubicBezTo>
                  <a:cubicBezTo>
                    <a:pt x="1632" y="254"/>
                    <a:pt x="1679" y="199"/>
                    <a:pt x="1724" y="177"/>
                  </a:cubicBezTo>
                  <a:cubicBezTo>
                    <a:pt x="1759" y="130"/>
                    <a:pt x="1805" y="125"/>
                    <a:pt x="1860" y="121"/>
                  </a:cubicBezTo>
                  <a:cubicBezTo>
                    <a:pt x="1868" y="118"/>
                    <a:pt x="1876" y="116"/>
                    <a:pt x="1884" y="113"/>
                  </a:cubicBezTo>
                  <a:cubicBezTo>
                    <a:pt x="1895" y="109"/>
                    <a:pt x="1916" y="97"/>
                    <a:pt x="1916" y="97"/>
                  </a:cubicBezTo>
                  <a:cubicBezTo>
                    <a:pt x="1946" y="56"/>
                    <a:pt x="1986" y="29"/>
                    <a:pt x="2028" y="1"/>
                  </a:cubicBezTo>
                  <a:cubicBezTo>
                    <a:pt x="2064" y="2"/>
                    <a:pt x="2100" y="0"/>
                    <a:pt x="2136" y="5"/>
                  </a:cubicBezTo>
                  <a:cubicBezTo>
                    <a:pt x="2142" y="6"/>
                    <a:pt x="2144" y="13"/>
                    <a:pt x="2148" y="17"/>
                  </a:cubicBezTo>
                  <a:cubicBezTo>
                    <a:pt x="2178" y="42"/>
                    <a:pt x="2205" y="57"/>
                    <a:pt x="2236" y="77"/>
                  </a:cubicBezTo>
                  <a:cubicBezTo>
                    <a:pt x="2249" y="103"/>
                    <a:pt x="2255" y="136"/>
                    <a:pt x="2276" y="157"/>
                  </a:cubicBezTo>
                  <a:cubicBezTo>
                    <a:pt x="2283" y="193"/>
                    <a:pt x="2300" y="213"/>
                    <a:pt x="2320" y="241"/>
                  </a:cubicBezTo>
                  <a:cubicBezTo>
                    <a:pt x="2329" y="254"/>
                    <a:pt x="2335" y="268"/>
                    <a:pt x="2344" y="281"/>
                  </a:cubicBezTo>
                  <a:cubicBezTo>
                    <a:pt x="2371" y="321"/>
                    <a:pt x="2429" y="328"/>
                    <a:pt x="2472" y="333"/>
                  </a:cubicBezTo>
                  <a:cubicBezTo>
                    <a:pt x="2494" y="366"/>
                    <a:pt x="2504" y="406"/>
                    <a:pt x="2528" y="437"/>
                  </a:cubicBezTo>
                  <a:cubicBezTo>
                    <a:pt x="2532" y="448"/>
                    <a:pt x="2538" y="458"/>
                    <a:pt x="2540" y="469"/>
                  </a:cubicBezTo>
                  <a:cubicBezTo>
                    <a:pt x="2546" y="498"/>
                    <a:pt x="2537" y="545"/>
                    <a:pt x="2572" y="557"/>
                  </a:cubicBezTo>
                  <a:cubicBezTo>
                    <a:pt x="2590" y="581"/>
                    <a:pt x="2603" y="608"/>
                    <a:pt x="2628" y="625"/>
                  </a:cubicBezTo>
                  <a:cubicBezTo>
                    <a:pt x="2633" y="641"/>
                    <a:pt x="2649" y="654"/>
                    <a:pt x="2664" y="661"/>
                  </a:cubicBezTo>
                </a:path>
              </a:pathLst>
            </a:custGeom>
            <a:noFill/>
            <a:ln w="158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1800" y="4216680"/>
              <a:ext cx="1440" cy="216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75160" y="4203000"/>
              <a:ext cx="0" cy="356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08520" y="4196880"/>
              <a:ext cx="0" cy="414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41880" y="4185000"/>
              <a:ext cx="0" cy="532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75240" y="4098600"/>
              <a:ext cx="0" cy="1396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08600" y="4114800"/>
              <a:ext cx="0" cy="1238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140520" y="3988800"/>
              <a:ext cx="1440" cy="2494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73880" y="3951000"/>
              <a:ext cx="0" cy="2872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806880" y="3909600"/>
              <a:ext cx="3240" cy="3290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40600" y="4007520"/>
              <a:ext cx="0" cy="2307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73960" y="4089960"/>
              <a:ext cx="0" cy="1483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48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49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0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1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A62E1BB8-9C7D-483D-B587-1E1086C9DC89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2" name=""/>
          <p:cNvSpPr/>
          <p:nvPr/>
        </p:nvSpPr>
        <p:spPr>
          <a:xfrm>
            <a:off x="3276720" y="2467080"/>
            <a:ext cx="228600" cy="114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3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428004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0" name=""/>
          <p:cNvSpPr/>
          <p:nvPr/>
        </p:nvSpPr>
        <p:spPr>
          <a:xfrm>
            <a:off x="5521320" y="426888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1" name=""/>
          <p:cNvSpPr/>
          <p:nvPr/>
        </p:nvSpPr>
        <p:spPr>
          <a:xfrm>
            <a:off x="7201080" y="427212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160880" y="3585960"/>
            <a:ext cx="167940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3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4" name=""/>
          <p:cNvSpPr/>
          <p:nvPr/>
        </p:nvSpPr>
        <p:spPr>
          <a:xfrm>
            <a:off x="6445080" y="5162400"/>
            <a:ext cx="2962440" cy="468360"/>
          </a:xfrm>
          <a:prstGeom prst="wedgeRectCallout">
            <a:avLst>
              <a:gd name="adj1" fmla="val -48712"/>
              <a:gd name="adj2" fmla="val -287967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Terrain Profile line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represents the highest terrain within the enroute swath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65" name=""/>
          <p:cNvSpPr/>
          <p:nvPr/>
        </p:nvSpPr>
        <p:spPr>
          <a:xfrm>
            <a:off x="2881440" y="5160960"/>
            <a:ext cx="3076560" cy="468360"/>
          </a:xfrm>
          <a:prstGeom prst="wedgeRectCallout">
            <a:avLst>
              <a:gd name="adj1" fmla="val -17180"/>
              <a:gd name="adj2" fmla="val -251356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errain behind the airplane is drawn equal to the terrain at the current position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460680" y="3154320"/>
            <a:ext cx="4229280" cy="1083600"/>
            <a:chOff x="3460680" y="3154320"/>
            <a:chExt cx="4229280" cy="1083600"/>
          </a:xfrm>
        </p:grpSpPr>
        <p:sp>
          <p:nvSpPr>
            <p:cNvPr id="667" name=""/>
            <p:cNvSpPr/>
            <p:nvPr/>
          </p:nvSpPr>
          <p:spPr>
            <a:xfrm>
              <a:off x="3460680" y="3154320"/>
              <a:ext cx="4229280" cy="1012680"/>
            </a:xfrm>
            <a:custGeom>
              <a:avLst/>
              <a:gdLst/>
              <a:ahLst/>
              <a:rect l="l" t="t" r="r" b="b"/>
              <a:pathLst>
                <a:path w="2664" h="745">
                  <a:moveTo>
                    <a:pt x="0" y="745"/>
                  </a:moveTo>
                  <a:lnTo>
                    <a:pt x="424" y="745"/>
                  </a:lnTo>
                  <a:cubicBezTo>
                    <a:pt x="448" y="729"/>
                    <a:pt x="471" y="730"/>
                    <a:pt x="496" y="717"/>
                  </a:cubicBezTo>
                  <a:cubicBezTo>
                    <a:pt x="519" y="706"/>
                    <a:pt x="540" y="697"/>
                    <a:pt x="564" y="689"/>
                  </a:cubicBezTo>
                  <a:cubicBezTo>
                    <a:pt x="598" y="696"/>
                    <a:pt x="619" y="706"/>
                    <a:pt x="656" y="709"/>
                  </a:cubicBezTo>
                  <a:cubicBezTo>
                    <a:pt x="681" y="717"/>
                    <a:pt x="706" y="723"/>
                    <a:pt x="732" y="729"/>
                  </a:cubicBezTo>
                  <a:cubicBezTo>
                    <a:pt x="783" y="726"/>
                    <a:pt x="790" y="731"/>
                    <a:pt x="824" y="709"/>
                  </a:cubicBezTo>
                  <a:cubicBezTo>
                    <a:pt x="838" y="687"/>
                    <a:pt x="860" y="686"/>
                    <a:pt x="884" y="681"/>
                  </a:cubicBezTo>
                  <a:cubicBezTo>
                    <a:pt x="948" y="685"/>
                    <a:pt x="976" y="689"/>
                    <a:pt x="1040" y="685"/>
                  </a:cubicBezTo>
                  <a:cubicBezTo>
                    <a:pt x="1062" y="671"/>
                    <a:pt x="1067" y="646"/>
                    <a:pt x="1084" y="629"/>
                  </a:cubicBezTo>
                  <a:cubicBezTo>
                    <a:pt x="1103" y="610"/>
                    <a:pt x="1125" y="592"/>
                    <a:pt x="1144" y="573"/>
                  </a:cubicBezTo>
                  <a:cubicBezTo>
                    <a:pt x="1176" y="541"/>
                    <a:pt x="1198" y="502"/>
                    <a:pt x="1236" y="477"/>
                  </a:cubicBezTo>
                  <a:cubicBezTo>
                    <a:pt x="1264" y="435"/>
                    <a:pt x="1333" y="464"/>
                    <a:pt x="1380" y="457"/>
                  </a:cubicBezTo>
                  <a:cubicBezTo>
                    <a:pt x="1396" y="458"/>
                    <a:pt x="1413" y="456"/>
                    <a:pt x="1428" y="461"/>
                  </a:cubicBezTo>
                  <a:cubicBezTo>
                    <a:pt x="1440" y="465"/>
                    <a:pt x="1453" y="489"/>
                    <a:pt x="1464" y="497"/>
                  </a:cubicBezTo>
                  <a:cubicBezTo>
                    <a:pt x="1472" y="496"/>
                    <a:pt x="1481" y="497"/>
                    <a:pt x="1488" y="493"/>
                  </a:cubicBezTo>
                  <a:cubicBezTo>
                    <a:pt x="1515" y="475"/>
                    <a:pt x="1499" y="431"/>
                    <a:pt x="1516" y="409"/>
                  </a:cubicBezTo>
                  <a:cubicBezTo>
                    <a:pt x="1529" y="393"/>
                    <a:pt x="1546" y="377"/>
                    <a:pt x="1564" y="365"/>
                  </a:cubicBezTo>
                  <a:cubicBezTo>
                    <a:pt x="1579" y="343"/>
                    <a:pt x="1607" y="327"/>
                    <a:pt x="1616" y="301"/>
                  </a:cubicBezTo>
                  <a:cubicBezTo>
                    <a:pt x="1632" y="254"/>
                    <a:pt x="1679" y="199"/>
                    <a:pt x="1724" y="177"/>
                  </a:cubicBezTo>
                  <a:cubicBezTo>
                    <a:pt x="1759" y="130"/>
                    <a:pt x="1805" y="125"/>
                    <a:pt x="1860" y="121"/>
                  </a:cubicBezTo>
                  <a:cubicBezTo>
                    <a:pt x="1868" y="118"/>
                    <a:pt x="1876" y="116"/>
                    <a:pt x="1884" y="113"/>
                  </a:cubicBezTo>
                  <a:cubicBezTo>
                    <a:pt x="1895" y="109"/>
                    <a:pt x="1916" y="97"/>
                    <a:pt x="1916" y="97"/>
                  </a:cubicBezTo>
                  <a:cubicBezTo>
                    <a:pt x="1946" y="56"/>
                    <a:pt x="1986" y="29"/>
                    <a:pt x="2028" y="1"/>
                  </a:cubicBezTo>
                  <a:cubicBezTo>
                    <a:pt x="2064" y="2"/>
                    <a:pt x="2100" y="0"/>
                    <a:pt x="2136" y="5"/>
                  </a:cubicBezTo>
                  <a:cubicBezTo>
                    <a:pt x="2142" y="6"/>
                    <a:pt x="2144" y="13"/>
                    <a:pt x="2148" y="17"/>
                  </a:cubicBezTo>
                  <a:cubicBezTo>
                    <a:pt x="2178" y="42"/>
                    <a:pt x="2205" y="57"/>
                    <a:pt x="2236" y="77"/>
                  </a:cubicBezTo>
                  <a:cubicBezTo>
                    <a:pt x="2249" y="103"/>
                    <a:pt x="2255" y="136"/>
                    <a:pt x="2276" y="157"/>
                  </a:cubicBezTo>
                  <a:cubicBezTo>
                    <a:pt x="2283" y="193"/>
                    <a:pt x="2300" y="213"/>
                    <a:pt x="2320" y="241"/>
                  </a:cubicBezTo>
                  <a:cubicBezTo>
                    <a:pt x="2329" y="254"/>
                    <a:pt x="2335" y="268"/>
                    <a:pt x="2344" y="281"/>
                  </a:cubicBezTo>
                  <a:cubicBezTo>
                    <a:pt x="2371" y="321"/>
                    <a:pt x="2429" y="328"/>
                    <a:pt x="2472" y="333"/>
                  </a:cubicBezTo>
                  <a:cubicBezTo>
                    <a:pt x="2494" y="366"/>
                    <a:pt x="2504" y="406"/>
                    <a:pt x="2528" y="437"/>
                  </a:cubicBezTo>
                  <a:cubicBezTo>
                    <a:pt x="2532" y="448"/>
                    <a:pt x="2538" y="458"/>
                    <a:pt x="2540" y="469"/>
                  </a:cubicBezTo>
                  <a:cubicBezTo>
                    <a:pt x="2546" y="498"/>
                    <a:pt x="2537" y="545"/>
                    <a:pt x="2572" y="557"/>
                  </a:cubicBezTo>
                  <a:cubicBezTo>
                    <a:pt x="2590" y="581"/>
                    <a:pt x="2603" y="608"/>
                    <a:pt x="2628" y="625"/>
                  </a:cubicBezTo>
                  <a:cubicBezTo>
                    <a:pt x="2633" y="641"/>
                    <a:pt x="2649" y="654"/>
                    <a:pt x="2664" y="661"/>
                  </a:cubicBezTo>
                </a:path>
              </a:pathLst>
            </a:custGeom>
            <a:noFill/>
            <a:ln w="158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41800" y="4167000"/>
              <a:ext cx="1440" cy="709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5160" y="4121280"/>
              <a:ext cx="0" cy="1166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08520" y="4102200"/>
              <a:ext cx="0" cy="1357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880" y="4063320"/>
              <a:ext cx="0" cy="1746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75240" y="3781440"/>
              <a:ext cx="0" cy="4561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8600" y="3833640"/>
              <a:ext cx="0" cy="4042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140520" y="3422880"/>
              <a:ext cx="1440" cy="8150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73880" y="3299400"/>
              <a:ext cx="0" cy="9385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06880" y="3163680"/>
              <a:ext cx="3240" cy="10742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600" y="3483720"/>
              <a:ext cx="0" cy="7542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73960" y="3753000"/>
              <a:ext cx="0" cy="4849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227560" y="3154320"/>
            <a:ext cx="2363760" cy="816120"/>
            <a:chOff x="5227560" y="3154320"/>
            <a:chExt cx="2363760" cy="816120"/>
          </a:xfrm>
        </p:grpSpPr>
        <p:sp>
          <p:nvSpPr>
            <p:cNvPr id="680" name=""/>
            <p:cNvSpPr/>
            <p:nvPr/>
          </p:nvSpPr>
          <p:spPr>
            <a:xfrm>
              <a:off x="5227560" y="3154320"/>
              <a:ext cx="2363760" cy="816120"/>
            </a:xfrm>
            <a:custGeom>
              <a:avLst/>
              <a:gdLst/>
              <a:ahLst/>
              <a:rect l="l" t="t" r="r" b="b"/>
              <a:pathLst>
                <a:path w="1489" h="514">
                  <a:moveTo>
                    <a:pt x="0" y="514"/>
                  </a:moveTo>
                  <a:cubicBezTo>
                    <a:pt x="19" y="497"/>
                    <a:pt x="12" y="507"/>
                    <a:pt x="31" y="491"/>
                  </a:cubicBezTo>
                  <a:cubicBezTo>
                    <a:pt x="63" y="463"/>
                    <a:pt x="85" y="430"/>
                    <a:pt x="123" y="408"/>
                  </a:cubicBezTo>
                  <a:cubicBezTo>
                    <a:pt x="151" y="373"/>
                    <a:pt x="220" y="397"/>
                    <a:pt x="267" y="391"/>
                  </a:cubicBezTo>
                  <a:cubicBezTo>
                    <a:pt x="283" y="392"/>
                    <a:pt x="300" y="391"/>
                    <a:pt x="315" y="395"/>
                  </a:cubicBezTo>
                  <a:cubicBezTo>
                    <a:pt x="327" y="398"/>
                    <a:pt x="340" y="419"/>
                    <a:pt x="351" y="426"/>
                  </a:cubicBezTo>
                  <a:cubicBezTo>
                    <a:pt x="359" y="425"/>
                    <a:pt x="368" y="426"/>
                    <a:pt x="375" y="422"/>
                  </a:cubicBezTo>
                  <a:cubicBezTo>
                    <a:pt x="402" y="407"/>
                    <a:pt x="386" y="369"/>
                    <a:pt x="403" y="350"/>
                  </a:cubicBezTo>
                  <a:cubicBezTo>
                    <a:pt x="416" y="337"/>
                    <a:pt x="433" y="323"/>
                    <a:pt x="451" y="313"/>
                  </a:cubicBezTo>
                  <a:cubicBezTo>
                    <a:pt x="466" y="294"/>
                    <a:pt x="494" y="280"/>
                    <a:pt x="503" y="258"/>
                  </a:cubicBezTo>
                  <a:cubicBezTo>
                    <a:pt x="519" y="218"/>
                    <a:pt x="566" y="170"/>
                    <a:pt x="611" y="152"/>
                  </a:cubicBezTo>
                  <a:cubicBezTo>
                    <a:pt x="646" y="111"/>
                    <a:pt x="692" y="107"/>
                    <a:pt x="747" y="104"/>
                  </a:cubicBezTo>
                  <a:cubicBezTo>
                    <a:pt x="755" y="101"/>
                    <a:pt x="763" y="99"/>
                    <a:pt x="771" y="97"/>
                  </a:cubicBezTo>
                  <a:cubicBezTo>
                    <a:pt x="782" y="93"/>
                    <a:pt x="803" y="83"/>
                    <a:pt x="803" y="83"/>
                  </a:cubicBezTo>
                  <a:cubicBezTo>
                    <a:pt x="833" y="48"/>
                    <a:pt x="873" y="25"/>
                    <a:pt x="915" y="1"/>
                  </a:cubicBezTo>
                  <a:cubicBezTo>
                    <a:pt x="951" y="2"/>
                    <a:pt x="987" y="0"/>
                    <a:pt x="1023" y="4"/>
                  </a:cubicBezTo>
                  <a:cubicBezTo>
                    <a:pt x="1029" y="5"/>
                    <a:pt x="1031" y="11"/>
                    <a:pt x="1035" y="15"/>
                  </a:cubicBezTo>
                  <a:cubicBezTo>
                    <a:pt x="1065" y="36"/>
                    <a:pt x="1092" y="49"/>
                    <a:pt x="1123" y="66"/>
                  </a:cubicBezTo>
                  <a:cubicBezTo>
                    <a:pt x="1136" y="88"/>
                    <a:pt x="1142" y="116"/>
                    <a:pt x="1163" y="134"/>
                  </a:cubicBezTo>
                  <a:cubicBezTo>
                    <a:pt x="1170" y="165"/>
                    <a:pt x="1187" y="182"/>
                    <a:pt x="1207" y="206"/>
                  </a:cubicBezTo>
                  <a:cubicBezTo>
                    <a:pt x="1216" y="218"/>
                    <a:pt x="1222" y="230"/>
                    <a:pt x="1231" y="241"/>
                  </a:cubicBezTo>
                  <a:cubicBezTo>
                    <a:pt x="1258" y="275"/>
                    <a:pt x="1316" y="281"/>
                    <a:pt x="1359" y="285"/>
                  </a:cubicBezTo>
                  <a:cubicBezTo>
                    <a:pt x="1381" y="313"/>
                    <a:pt x="1391" y="348"/>
                    <a:pt x="1415" y="374"/>
                  </a:cubicBezTo>
                  <a:cubicBezTo>
                    <a:pt x="1419" y="384"/>
                    <a:pt x="1425" y="392"/>
                    <a:pt x="1427" y="402"/>
                  </a:cubicBezTo>
                  <a:cubicBezTo>
                    <a:pt x="1433" y="426"/>
                    <a:pt x="1424" y="467"/>
                    <a:pt x="1459" y="477"/>
                  </a:cubicBezTo>
                  <a:cubicBezTo>
                    <a:pt x="1477" y="498"/>
                    <a:pt x="1459" y="479"/>
                    <a:pt x="1489" y="514"/>
                  </a:cubicBezTo>
                </a:path>
              </a:pathLst>
            </a:custGeom>
            <a:noFill/>
            <a:ln w="158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75240" y="3782880"/>
              <a:ext cx="0" cy="1825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08600" y="3833640"/>
              <a:ext cx="0" cy="1303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6140520" y="3422520"/>
              <a:ext cx="1440" cy="5414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73880" y="3300480"/>
              <a:ext cx="0" cy="666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806880" y="3164040"/>
              <a:ext cx="3240" cy="8031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40600" y="3484440"/>
              <a:ext cx="0" cy="4795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3960" y="3753000"/>
              <a:ext cx="0" cy="2156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010200" y="3154320"/>
            <a:ext cx="1266840" cy="444600"/>
            <a:chOff x="6010200" y="3154320"/>
            <a:chExt cx="1266840" cy="444600"/>
          </a:xfrm>
        </p:grpSpPr>
        <p:sp>
          <p:nvSpPr>
            <p:cNvPr id="689" name=""/>
            <p:cNvSpPr/>
            <p:nvPr/>
          </p:nvSpPr>
          <p:spPr>
            <a:xfrm>
              <a:off x="6010200" y="3154320"/>
              <a:ext cx="1266840" cy="444600"/>
            </a:xfrm>
            <a:custGeom>
              <a:avLst/>
              <a:gdLst/>
              <a:ahLst/>
              <a:rect l="l" t="t" r="r" b="b"/>
              <a:pathLst>
                <a:path w="798" h="280">
                  <a:moveTo>
                    <a:pt x="0" y="274"/>
                  </a:moveTo>
                  <a:cubicBezTo>
                    <a:pt x="15" y="255"/>
                    <a:pt x="0" y="280"/>
                    <a:pt x="9" y="258"/>
                  </a:cubicBezTo>
                  <a:cubicBezTo>
                    <a:pt x="25" y="218"/>
                    <a:pt x="72" y="170"/>
                    <a:pt x="117" y="152"/>
                  </a:cubicBezTo>
                  <a:cubicBezTo>
                    <a:pt x="152" y="111"/>
                    <a:pt x="198" y="107"/>
                    <a:pt x="253" y="104"/>
                  </a:cubicBezTo>
                  <a:cubicBezTo>
                    <a:pt x="261" y="101"/>
                    <a:pt x="269" y="99"/>
                    <a:pt x="277" y="97"/>
                  </a:cubicBezTo>
                  <a:cubicBezTo>
                    <a:pt x="288" y="93"/>
                    <a:pt x="309" y="83"/>
                    <a:pt x="309" y="83"/>
                  </a:cubicBezTo>
                  <a:cubicBezTo>
                    <a:pt x="339" y="48"/>
                    <a:pt x="379" y="25"/>
                    <a:pt x="421" y="1"/>
                  </a:cubicBezTo>
                  <a:cubicBezTo>
                    <a:pt x="457" y="2"/>
                    <a:pt x="493" y="0"/>
                    <a:pt x="529" y="4"/>
                  </a:cubicBezTo>
                  <a:cubicBezTo>
                    <a:pt x="535" y="5"/>
                    <a:pt x="537" y="11"/>
                    <a:pt x="541" y="15"/>
                  </a:cubicBezTo>
                  <a:cubicBezTo>
                    <a:pt x="571" y="36"/>
                    <a:pt x="598" y="49"/>
                    <a:pt x="629" y="66"/>
                  </a:cubicBezTo>
                  <a:cubicBezTo>
                    <a:pt x="642" y="88"/>
                    <a:pt x="648" y="116"/>
                    <a:pt x="669" y="134"/>
                  </a:cubicBezTo>
                  <a:cubicBezTo>
                    <a:pt x="676" y="165"/>
                    <a:pt x="693" y="182"/>
                    <a:pt x="713" y="206"/>
                  </a:cubicBezTo>
                  <a:cubicBezTo>
                    <a:pt x="722" y="218"/>
                    <a:pt x="728" y="230"/>
                    <a:pt x="737" y="241"/>
                  </a:cubicBezTo>
                  <a:cubicBezTo>
                    <a:pt x="772" y="269"/>
                    <a:pt x="759" y="257"/>
                    <a:pt x="798" y="274"/>
                  </a:cubicBezTo>
                </a:path>
              </a:pathLst>
            </a:custGeom>
            <a:noFill/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41960" y="3422520"/>
              <a:ext cx="0" cy="169920"/>
            </a:xfrm>
            <a:prstGeom prst="line">
              <a:avLst/>
            </a:prstGeom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72080" y="3300480"/>
              <a:ext cx="0" cy="285840"/>
            </a:xfrm>
            <a:prstGeom prst="line">
              <a:avLst/>
            </a:prstGeom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08680" y="3164040"/>
              <a:ext cx="0" cy="425160"/>
            </a:xfrm>
            <a:prstGeom prst="line">
              <a:avLst/>
            </a:prstGeom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9160" y="3484440"/>
              <a:ext cx="0" cy="109800"/>
            </a:xfrm>
            <a:prstGeom prst="line">
              <a:avLst/>
            </a:prstGeom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5375160" y="825480"/>
            <a:ext cx="4295880" cy="1278000"/>
          </a:xfrm>
          <a:prstGeom prst="wedgeRectCallout">
            <a:avLst>
              <a:gd name="adj1" fmla="val -29824"/>
              <a:gd name="adj2" fmla="val 147513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VSD terrain uses the same color coding that is used to depict EGPWS terrain on the lateral map :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 • </a:t>
            </a: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:   terrain 250-500 ft or more below the airplane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 • 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mber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:  terrain from 250-500 ft below to 2000 ft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bove the airplane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 •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:       terrain more than 2000 ft above the airplane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95" name=""/>
          <p:cNvSpPr/>
          <p:nvPr/>
        </p:nvSpPr>
        <p:spPr>
          <a:xfrm>
            <a:off x="7967520" y="2494080"/>
            <a:ext cx="1667160" cy="2011320"/>
          </a:xfrm>
          <a:prstGeom prst="wedgeRectCallout">
            <a:avLst>
              <a:gd name="adj1" fmla="val 856"/>
              <a:gd name="adj2" fmla="val -14481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VSD will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always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show terrain profile, regardless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R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has been pressed on the EFIS control panel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is allows the pilot to select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WXR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n the ND and still have terrain profile on the VSD !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8172360" y="4834080"/>
            <a:ext cx="1257480" cy="10382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8962920" y="5533920"/>
            <a:ext cx="552600" cy="352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8999640" y="5504040"/>
            <a:ext cx="380880" cy="3902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0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1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2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3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4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5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6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7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8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09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0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1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7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8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19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1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2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724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7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8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29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1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2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Approach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6" name=""/>
          <p:cNvSpPr/>
          <p:nvPr/>
        </p:nvSpPr>
        <p:spPr>
          <a:xfrm>
            <a:off x="303120" y="403200"/>
            <a:ext cx="89154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Approach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7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8" name=""/>
          <p:cNvSpPr/>
          <p:nvPr/>
        </p:nvSpPr>
        <p:spPr>
          <a:xfrm>
            <a:off x="3368520" y="27813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39" name=""/>
          <p:cNvSpPr/>
          <p:nvPr/>
        </p:nvSpPr>
        <p:spPr>
          <a:xfrm>
            <a:off x="3297240" y="30686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40" name=""/>
          <p:cNvSpPr/>
          <p:nvPr/>
        </p:nvSpPr>
        <p:spPr>
          <a:xfrm>
            <a:off x="3368520" y="3357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41" name=""/>
          <p:cNvSpPr/>
          <p:nvPr/>
        </p:nvSpPr>
        <p:spPr>
          <a:xfrm>
            <a:off x="3297240" y="3645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42" name=""/>
          <p:cNvSpPr/>
          <p:nvPr/>
        </p:nvSpPr>
        <p:spPr>
          <a:xfrm>
            <a:off x="3368520" y="3933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43" name=""/>
          <p:cNvSpPr/>
          <p:nvPr/>
        </p:nvSpPr>
        <p:spPr>
          <a:xfrm>
            <a:off x="3297240" y="4221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317760" y="3241800"/>
            <a:ext cx="4335480" cy="212760"/>
            <a:chOff x="3317760" y="3241800"/>
            <a:chExt cx="4335480" cy="212760"/>
          </a:xfrm>
        </p:grpSpPr>
        <p:sp>
          <p:nvSpPr>
            <p:cNvPr id="745" name=""/>
            <p:cNvSpPr/>
            <p:nvPr/>
          </p:nvSpPr>
          <p:spPr>
            <a:xfrm>
              <a:off x="3317760" y="32418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67160" y="33562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348000" y="4019400"/>
            <a:ext cx="4268520" cy="222120"/>
            <a:chOff x="3348000" y="4019400"/>
            <a:chExt cx="4268520" cy="222120"/>
          </a:xfrm>
        </p:grpSpPr>
        <p:sp>
          <p:nvSpPr>
            <p:cNvPr id="748" name=""/>
            <p:cNvSpPr/>
            <p:nvPr/>
          </p:nvSpPr>
          <p:spPr>
            <a:xfrm>
              <a:off x="3348000" y="4019400"/>
              <a:ext cx="93600" cy="22212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0" y="0"/>
                  </a:moveTo>
                  <a:lnTo>
                    <a:pt x="0" y="140"/>
                  </a:lnTo>
                  <a:lnTo>
                    <a:pt x="59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76520" y="4128840"/>
              <a:ext cx="4140000" cy="0"/>
            </a:xfrm>
            <a:prstGeom prst="line">
              <a:avLst/>
            </a:prstGeom>
            <a:ln w="19080">
              <a:solidFill>
                <a:srgbClr val="66ff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651120" y="320040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7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CF34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8" name=""/>
          <p:cNvSpPr/>
          <p:nvPr/>
        </p:nvSpPr>
        <p:spPr>
          <a:xfrm>
            <a:off x="5643720" y="3838680"/>
            <a:ext cx="1442880" cy="33804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59" name=""/>
          <p:cNvSpPr/>
          <p:nvPr/>
        </p:nvSpPr>
        <p:spPr>
          <a:xfrm>
            <a:off x="4184640" y="334980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60" name=""/>
          <p:cNvSpPr/>
          <p:nvPr/>
        </p:nvSpPr>
        <p:spPr>
          <a:xfrm>
            <a:off x="5843520" y="3309840"/>
            <a:ext cx="76320" cy="79560"/>
          </a:xfrm>
          <a:prstGeom prst="ellipse">
            <a:avLst/>
          </a:prstGeom>
          <a:noFill/>
          <a:ln w="158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460680" y="3849840"/>
            <a:ext cx="4229280" cy="388800"/>
            <a:chOff x="3460680" y="3849840"/>
            <a:chExt cx="4229280" cy="388800"/>
          </a:xfrm>
        </p:grpSpPr>
        <p:sp>
          <p:nvSpPr>
            <p:cNvPr id="762" name=""/>
            <p:cNvSpPr/>
            <p:nvPr/>
          </p:nvSpPr>
          <p:spPr>
            <a:xfrm flipH="1">
              <a:off x="3460680" y="3849840"/>
              <a:ext cx="4229280" cy="363240"/>
            </a:xfrm>
            <a:custGeom>
              <a:avLst/>
              <a:gdLst/>
              <a:ahLst/>
              <a:rect l="l" t="t" r="r" b="b"/>
              <a:pathLst>
                <a:path w="2664" h="745">
                  <a:moveTo>
                    <a:pt x="0" y="745"/>
                  </a:moveTo>
                  <a:lnTo>
                    <a:pt x="424" y="745"/>
                  </a:lnTo>
                  <a:cubicBezTo>
                    <a:pt x="448" y="729"/>
                    <a:pt x="471" y="730"/>
                    <a:pt x="496" y="717"/>
                  </a:cubicBezTo>
                  <a:cubicBezTo>
                    <a:pt x="519" y="706"/>
                    <a:pt x="540" y="697"/>
                    <a:pt x="564" y="689"/>
                  </a:cubicBezTo>
                  <a:cubicBezTo>
                    <a:pt x="598" y="696"/>
                    <a:pt x="619" y="706"/>
                    <a:pt x="656" y="709"/>
                  </a:cubicBezTo>
                  <a:cubicBezTo>
                    <a:pt x="681" y="717"/>
                    <a:pt x="706" y="723"/>
                    <a:pt x="732" y="729"/>
                  </a:cubicBezTo>
                  <a:cubicBezTo>
                    <a:pt x="783" y="726"/>
                    <a:pt x="790" y="731"/>
                    <a:pt x="824" y="709"/>
                  </a:cubicBezTo>
                  <a:cubicBezTo>
                    <a:pt x="838" y="687"/>
                    <a:pt x="860" y="686"/>
                    <a:pt x="884" y="681"/>
                  </a:cubicBezTo>
                  <a:cubicBezTo>
                    <a:pt x="948" y="685"/>
                    <a:pt x="976" y="689"/>
                    <a:pt x="1040" y="685"/>
                  </a:cubicBezTo>
                  <a:cubicBezTo>
                    <a:pt x="1062" y="671"/>
                    <a:pt x="1067" y="646"/>
                    <a:pt x="1084" y="629"/>
                  </a:cubicBezTo>
                  <a:cubicBezTo>
                    <a:pt x="1103" y="610"/>
                    <a:pt x="1125" y="592"/>
                    <a:pt x="1144" y="573"/>
                  </a:cubicBezTo>
                  <a:cubicBezTo>
                    <a:pt x="1176" y="541"/>
                    <a:pt x="1198" y="502"/>
                    <a:pt x="1236" y="477"/>
                  </a:cubicBezTo>
                  <a:cubicBezTo>
                    <a:pt x="1264" y="435"/>
                    <a:pt x="1333" y="464"/>
                    <a:pt x="1380" y="457"/>
                  </a:cubicBezTo>
                  <a:cubicBezTo>
                    <a:pt x="1396" y="458"/>
                    <a:pt x="1413" y="456"/>
                    <a:pt x="1428" y="461"/>
                  </a:cubicBezTo>
                  <a:cubicBezTo>
                    <a:pt x="1440" y="465"/>
                    <a:pt x="1453" y="489"/>
                    <a:pt x="1464" y="497"/>
                  </a:cubicBezTo>
                  <a:cubicBezTo>
                    <a:pt x="1472" y="496"/>
                    <a:pt x="1481" y="497"/>
                    <a:pt x="1488" y="493"/>
                  </a:cubicBezTo>
                  <a:cubicBezTo>
                    <a:pt x="1515" y="475"/>
                    <a:pt x="1499" y="431"/>
                    <a:pt x="1516" y="409"/>
                  </a:cubicBezTo>
                  <a:cubicBezTo>
                    <a:pt x="1529" y="393"/>
                    <a:pt x="1546" y="377"/>
                    <a:pt x="1564" y="365"/>
                  </a:cubicBezTo>
                  <a:cubicBezTo>
                    <a:pt x="1579" y="343"/>
                    <a:pt x="1607" y="327"/>
                    <a:pt x="1616" y="301"/>
                  </a:cubicBezTo>
                  <a:cubicBezTo>
                    <a:pt x="1632" y="254"/>
                    <a:pt x="1679" y="199"/>
                    <a:pt x="1724" y="177"/>
                  </a:cubicBezTo>
                  <a:cubicBezTo>
                    <a:pt x="1759" y="130"/>
                    <a:pt x="1805" y="125"/>
                    <a:pt x="1860" y="121"/>
                  </a:cubicBezTo>
                  <a:cubicBezTo>
                    <a:pt x="1868" y="118"/>
                    <a:pt x="1876" y="116"/>
                    <a:pt x="1884" y="113"/>
                  </a:cubicBezTo>
                  <a:cubicBezTo>
                    <a:pt x="1895" y="109"/>
                    <a:pt x="1916" y="97"/>
                    <a:pt x="1916" y="97"/>
                  </a:cubicBezTo>
                  <a:cubicBezTo>
                    <a:pt x="1946" y="56"/>
                    <a:pt x="1986" y="29"/>
                    <a:pt x="2028" y="1"/>
                  </a:cubicBezTo>
                  <a:cubicBezTo>
                    <a:pt x="2064" y="2"/>
                    <a:pt x="2100" y="0"/>
                    <a:pt x="2136" y="5"/>
                  </a:cubicBezTo>
                  <a:cubicBezTo>
                    <a:pt x="2142" y="6"/>
                    <a:pt x="2144" y="13"/>
                    <a:pt x="2148" y="17"/>
                  </a:cubicBezTo>
                  <a:cubicBezTo>
                    <a:pt x="2178" y="42"/>
                    <a:pt x="2205" y="57"/>
                    <a:pt x="2236" y="77"/>
                  </a:cubicBezTo>
                  <a:cubicBezTo>
                    <a:pt x="2249" y="103"/>
                    <a:pt x="2255" y="136"/>
                    <a:pt x="2276" y="157"/>
                  </a:cubicBezTo>
                  <a:cubicBezTo>
                    <a:pt x="2283" y="193"/>
                    <a:pt x="2300" y="213"/>
                    <a:pt x="2320" y="241"/>
                  </a:cubicBezTo>
                  <a:cubicBezTo>
                    <a:pt x="2329" y="254"/>
                    <a:pt x="2335" y="268"/>
                    <a:pt x="2344" y="281"/>
                  </a:cubicBezTo>
                  <a:cubicBezTo>
                    <a:pt x="2371" y="321"/>
                    <a:pt x="2429" y="328"/>
                    <a:pt x="2472" y="333"/>
                  </a:cubicBezTo>
                  <a:cubicBezTo>
                    <a:pt x="2494" y="366"/>
                    <a:pt x="2504" y="406"/>
                    <a:pt x="2528" y="437"/>
                  </a:cubicBezTo>
                  <a:cubicBezTo>
                    <a:pt x="2532" y="448"/>
                    <a:pt x="2538" y="458"/>
                    <a:pt x="2540" y="469"/>
                  </a:cubicBezTo>
                  <a:cubicBezTo>
                    <a:pt x="2546" y="498"/>
                    <a:pt x="2537" y="545"/>
                    <a:pt x="2572" y="557"/>
                  </a:cubicBezTo>
                  <a:cubicBezTo>
                    <a:pt x="2590" y="581"/>
                    <a:pt x="2603" y="608"/>
                    <a:pt x="2628" y="625"/>
                  </a:cubicBezTo>
                  <a:cubicBezTo>
                    <a:pt x="2633" y="641"/>
                    <a:pt x="2649" y="654"/>
                    <a:pt x="2664" y="661"/>
                  </a:cubicBezTo>
                </a:path>
              </a:pathLst>
            </a:custGeom>
            <a:noFill/>
            <a:ln w="158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007400" y="4213080"/>
              <a:ext cx="1440" cy="252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5480" y="4196520"/>
              <a:ext cx="0" cy="417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2120" y="4189680"/>
              <a:ext cx="0" cy="486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08760" y="4176000"/>
              <a:ext cx="0" cy="626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75400" y="4074840"/>
              <a:ext cx="0" cy="1634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42040" y="4093560"/>
              <a:ext cx="0" cy="1447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08680" y="3945960"/>
              <a:ext cx="1440" cy="2923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76760" y="3901680"/>
              <a:ext cx="0" cy="3366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40520" y="3853080"/>
              <a:ext cx="3240" cy="38520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10040" y="3967920"/>
              <a:ext cx="0" cy="2703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76680" y="4064400"/>
              <a:ext cx="0" cy="1738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7083360" y="2752560"/>
            <a:ext cx="648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75" name=""/>
          <p:cNvSpPr/>
          <p:nvPr/>
        </p:nvSpPr>
        <p:spPr>
          <a:xfrm>
            <a:off x="6659640" y="2298600"/>
            <a:ext cx="79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W34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36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76" name=""/>
          <p:cNvSpPr/>
          <p:nvPr/>
        </p:nvSpPr>
        <p:spPr>
          <a:xfrm>
            <a:off x="7091280" y="42051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77" name=""/>
          <p:cNvSpPr/>
          <p:nvPr/>
        </p:nvSpPr>
        <p:spPr>
          <a:xfrm>
            <a:off x="7039080" y="405936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78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79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I34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28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0" name=""/>
          <p:cNvSpPr/>
          <p:nvPr/>
        </p:nvSpPr>
        <p:spPr>
          <a:xfrm>
            <a:off x="6296040" y="3890880"/>
            <a:ext cx="100080" cy="10008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299280" y="4003560"/>
            <a:ext cx="100080" cy="10008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2" name=""/>
          <p:cNvSpPr/>
          <p:nvPr/>
        </p:nvSpPr>
        <p:spPr>
          <a:xfrm>
            <a:off x="6566040" y="3962520"/>
            <a:ext cx="125280" cy="183960"/>
          </a:xfrm>
          <a:custGeom>
            <a:avLst/>
            <a:gdLst/>
            <a:ahLst/>
            <a:rect l="l" t="t" r="r" b="b"/>
            <a:pathLst>
              <a:path w="61" h="92">
                <a:moveTo>
                  <a:pt x="0" y="92"/>
                </a:moveTo>
                <a:lnTo>
                  <a:pt x="52" y="77"/>
                </a:lnTo>
                <a:lnTo>
                  <a:pt x="61" y="41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3" name=""/>
          <p:cNvSpPr/>
          <p:nvPr/>
        </p:nvSpPr>
        <p:spPr>
          <a:xfrm>
            <a:off x="6829560" y="4019400"/>
            <a:ext cx="115920" cy="174600"/>
          </a:xfrm>
          <a:custGeom>
            <a:avLst/>
            <a:gdLst/>
            <a:ahLst/>
            <a:rect l="l" t="t" r="r" b="b"/>
            <a:pathLst>
              <a:path w="61" h="92">
                <a:moveTo>
                  <a:pt x="0" y="92"/>
                </a:moveTo>
                <a:lnTo>
                  <a:pt x="52" y="77"/>
                </a:lnTo>
                <a:lnTo>
                  <a:pt x="61" y="41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4" name=""/>
          <p:cNvSpPr/>
          <p:nvPr/>
        </p:nvSpPr>
        <p:spPr>
          <a:xfrm>
            <a:off x="2505240" y="28605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5" name=""/>
          <p:cNvSpPr/>
          <p:nvPr/>
        </p:nvSpPr>
        <p:spPr>
          <a:xfrm>
            <a:off x="2505240" y="343692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6" name=""/>
          <p:cNvSpPr/>
          <p:nvPr/>
        </p:nvSpPr>
        <p:spPr>
          <a:xfrm>
            <a:off x="2505240" y="401328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7" name=""/>
          <p:cNvSpPr/>
          <p:nvPr/>
        </p:nvSpPr>
        <p:spPr>
          <a:xfrm>
            <a:off x="3843360" y="428004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89" name=""/>
          <p:cNvSpPr/>
          <p:nvPr/>
        </p:nvSpPr>
        <p:spPr>
          <a:xfrm>
            <a:off x="5521320" y="426888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0" name=""/>
          <p:cNvSpPr/>
          <p:nvPr/>
        </p:nvSpPr>
        <p:spPr>
          <a:xfrm>
            <a:off x="7201080" y="427212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1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E0A04996-CF60-408F-A219-532F86CA885F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2" name=""/>
          <p:cNvSpPr/>
          <p:nvPr/>
        </p:nvSpPr>
        <p:spPr>
          <a:xfrm>
            <a:off x="1585800" y="1170000"/>
            <a:ext cx="5838840" cy="687240"/>
          </a:xfrm>
          <a:prstGeom prst="wedgeRectCallout">
            <a:avLst>
              <a:gd name="adj1" fmla="val 9870"/>
              <a:gd name="adj2" fmla="val 259004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Range to Target Speed Dot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(RTSD) indicates where the airplane will achieve the FMC or MCP target speed, both during acceleration and deceleration. 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dot is blanked when the actual speed is within 5 knots of the target spe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3" name=""/>
          <p:cNvSpPr/>
          <p:nvPr/>
        </p:nvSpPr>
        <p:spPr>
          <a:xfrm>
            <a:off x="5060880" y="3303720"/>
            <a:ext cx="76320" cy="79200"/>
          </a:xfrm>
          <a:prstGeom prst="ellipse">
            <a:avLst/>
          </a:prstGeom>
          <a:solidFill>
            <a:srgbClr val="66ff33"/>
          </a:solidFill>
          <a:ln w="158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590400" y="3005280"/>
            <a:ext cx="1238400" cy="21812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546200" y="4997520"/>
            <a:ext cx="2790720" cy="649080"/>
          </a:xfrm>
          <a:prstGeom prst="wedgeRectCallout">
            <a:avLst>
              <a:gd name="adj1" fmla="val 76620"/>
              <a:gd name="adj2" fmla="val -3093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n this example, the airplane will reach the target speed (270 knots) in 6 NM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6" name=""/>
          <p:cNvSpPr/>
          <p:nvPr/>
        </p:nvSpPr>
        <p:spPr>
          <a:xfrm>
            <a:off x="1228680" y="4210200"/>
            <a:ext cx="0" cy="32364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095440" y="3438000"/>
            <a:ext cx="9720" cy="1714680"/>
          </a:xfrm>
          <a:prstGeom prst="line">
            <a:avLst/>
          </a:prstGeom>
          <a:ln cap="rnd" w="1260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8" name=""/>
          <p:cNvSpPr/>
          <p:nvPr/>
        </p:nvSpPr>
        <p:spPr>
          <a:xfrm>
            <a:off x="4716360" y="4995720"/>
            <a:ext cx="3276720" cy="658800"/>
          </a:xfrm>
          <a:prstGeom prst="wedgeRectCallout">
            <a:avLst>
              <a:gd name="adj1" fmla="val -14824"/>
              <a:gd name="adj2" fmla="val -282773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solid dot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s replaced with an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unfilled dot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f target speed will not be achieved within length of the vertical flight path vector line.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799" name=""/>
          <p:cNvSpPr/>
          <p:nvPr/>
        </p:nvSpPr>
        <p:spPr>
          <a:xfrm rot="7378800">
            <a:off x="4973040" y="2425680"/>
            <a:ext cx="1085760" cy="485640"/>
          </a:xfrm>
          <a:custGeom>
            <a:avLst/>
            <a:gdLst>
              <a:gd name="textAreaLeft" fmla="*/ 169560 w 1085760"/>
              <a:gd name="textAreaRight" fmla="*/ 950040 w 10857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>
              <a:alpha val="40000"/>
            </a:srgbClr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6 0.00069 L 0.07949 0.00069 E">
                                      <p:cBhvr>
                                        <p:cTn id="536" dur="3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500"/>
                            </p:stCondLst>
                            <p:childTnLst>
                              <p:par>
                                <p:cTn id="54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1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Approach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5" name=""/>
          <p:cNvSpPr/>
          <p:nvPr/>
        </p:nvSpPr>
        <p:spPr>
          <a:xfrm>
            <a:off x="303120" y="39384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Approach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3460680" y="4164120"/>
            <a:ext cx="4229280" cy="74520"/>
            <a:chOff x="3460680" y="4164120"/>
            <a:chExt cx="4229280" cy="74520"/>
          </a:xfrm>
        </p:grpSpPr>
        <p:sp>
          <p:nvSpPr>
            <p:cNvPr id="812" name=""/>
            <p:cNvSpPr/>
            <p:nvPr/>
          </p:nvSpPr>
          <p:spPr>
            <a:xfrm flipH="1">
              <a:off x="3460680" y="4164120"/>
              <a:ext cx="4229280" cy="69840"/>
            </a:xfrm>
            <a:custGeom>
              <a:avLst/>
              <a:gdLst/>
              <a:ahLst/>
              <a:rect l="l" t="t" r="r" b="b"/>
              <a:pathLst>
                <a:path w="2664" h="745">
                  <a:moveTo>
                    <a:pt x="0" y="745"/>
                  </a:moveTo>
                  <a:lnTo>
                    <a:pt x="424" y="745"/>
                  </a:lnTo>
                  <a:cubicBezTo>
                    <a:pt x="448" y="729"/>
                    <a:pt x="471" y="730"/>
                    <a:pt x="496" y="717"/>
                  </a:cubicBezTo>
                  <a:cubicBezTo>
                    <a:pt x="519" y="706"/>
                    <a:pt x="540" y="697"/>
                    <a:pt x="564" y="689"/>
                  </a:cubicBezTo>
                  <a:cubicBezTo>
                    <a:pt x="598" y="696"/>
                    <a:pt x="619" y="706"/>
                    <a:pt x="656" y="709"/>
                  </a:cubicBezTo>
                  <a:cubicBezTo>
                    <a:pt x="681" y="717"/>
                    <a:pt x="706" y="723"/>
                    <a:pt x="732" y="729"/>
                  </a:cubicBezTo>
                  <a:cubicBezTo>
                    <a:pt x="783" y="726"/>
                    <a:pt x="790" y="731"/>
                    <a:pt x="824" y="709"/>
                  </a:cubicBezTo>
                  <a:cubicBezTo>
                    <a:pt x="838" y="687"/>
                    <a:pt x="860" y="686"/>
                    <a:pt x="884" y="681"/>
                  </a:cubicBezTo>
                  <a:cubicBezTo>
                    <a:pt x="948" y="685"/>
                    <a:pt x="976" y="689"/>
                    <a:pt x="1040" y="685"/>
                  </a:cubicBezTo>
                  <a:cubicBezTo>
                    <a:pt x="1062" y="671"/>
                    <a:pt x="1067" y="646"/>
                    <a:pt x="1084" y="629"/>
                  </a:cubicBezTo>
                  <a:cubicBezTo>
                    <a:pt x="1103" y="610"/>
                    <a:pt x="1125" y="592"/>
                    <a:pt x="1144" y="573"/>
                  </a:cubicBezTo>
                  <a:cubicBezTo>
                    <a:pt x="1176" y="541"/>
                    <a:pt x="1198" y="502"/>
                    <a:pt x="1236" y="477"/>
                  </a:cubicBezTo>
                  <a:cubicBezTo>
                    <a:pt x="1264" y="435"/>
                    <a:pt x="1333" y="464"/>
                    <a:pt x="1380" y="457"/>
                  </a:cubicBezTo>
                  <a:cubicBezTo>
                    <a:pt x="1396" y="458"/>
                    <a:pt x="1413" y="456"/>
                    <a:pt x="1428" y="461"/>
                  </a:cubicBezTo>
                  <a:cubicBezTo>
                    <a:pt x="1440" y="465"/>
                    <a:pt x="1453" y="489"/>
                    <a:pt x="1464" y="497"/>
                  </a:cubicBezTo>
                  <a:cubicBezTo>
                    <a:pt x="1472" y="496"/>
                    <a:pt x="1481" y="497"/>
                    <a:pt x="1488" y="493"/>
                  </a:cubicBezTo>
                  <a:cubicBezTo>
                    <a:pt x="1515" y="475"/>
                    <a:pt x="1499" y="431"/>
                    <a:pt x="1516" y="409"/>
                  </a:cubicBezTo>
                  <a:cubicBezTo>
                    <a:pt x="1529" y="393"/>
                    <a:pt x="1546" y="377"/>
                    <a:pt x="1564" y="365"/>
                  </a:cubicBezTo>
                  <a:cubicBezTo>
                    <a:pt x="1579" y="343"/>
                    <a:pt x="1607" y="327"/>
                    <a:pt x="1616" y="301"/>
                  </a:cubicBezTo>
                  <a:cubicBezTo>
                    <a:pt x="1632" y="254"/>
                    <a:pt x="1679" y="199"/>
                    <a:pt x="1724" y="177"/>
                  </a:cubicBezTo>
                  <a:cubicBezTo>
                    <a:pt x="1759" y="130"/>
                    <a:pt x="1805" y="125"/>
                    <a:pt x="1860" y="121"/>
                  </a:cubicBezTo>
                  <a:cubicBezTo>
                    <a:pt x="1868" y="118"/>
                    <a:pt x="1876" y="116"/>
                    <a:pt x="1884" y="113"/>
                  </a:cubicBezTo>
                  <a:cubicBezTo>
                    <a:pt x="1895" y="109"/>
                    <a:pt x="1916" y="97"/>
                    <a:pt x="1916" y="97"/>
                  </a:cubicBezTo>
                  <a:cubicBezTo>
                    <a:pt x="1946" y="56"/>
                    <a:pt x="1986" y="29"/>
                    <a:pt x="2028" y="1"/>
                  </a:cubicBezTo>
                  <a:cubicBezTo>
                    <a:pt x="2064" y="2"/>
                    <a:pt x="2100" y="0"/>
                    <a:pt x="2136" y="5"/>
                  </a:cubicBezTo>
                  <a:cubicBezTo>
                    <a:pt x="2142" y="6"/>
                    <a:pt x="2144" y="13"/>
                    <a:pt x="2148" y="17"/>
                  </a:cubicBezTo>
                  <a:cubicBezTo>
                    <a:pt x="2178" y="42"/>
                    <a:pt x="2205" y="57"/>
                    <a:pt x="2236" y="77"/>
                  </a:cubicBezTo>
                  <a:cubicBezTo>
                    <a:pt x="2249" y="103"/>
                    <a:pt x="2255" y="136"/>
                    <a:pt x="2276" y="157"/>
                  </a:cubicBezTo>
                  <a:cubicBezTo>
                    <a:pt x="2283" y="193"/>
                    <a:pt x="2300" y="213"/>
                    <a:pt x="2320" y="241"/>
                  </a:cubicBezTo>
                  <a:cubicBezTo>
                    <a:pt x="2329" y="254"/>
                    <a:pt x="2335" y="268"/>
                    <a:pt x="2344" y="281"/>
                  </a:cubicBezTo>
                  <a:cubicBezTo>
                    <a:pt x="2371" y="321"/>
                    <a:pt x="2429" y="328"/>
                    <a:pt x="2472" y="333"/>
                  </a:cubicBezTo>
                  <a:cubicBezTo>
                    <a:pt x="2494" y="366"/>
                    <a:pt x="2504" y="406"/>
                    <a:pt x="2528" y="437"/>
                  </a:cubicBezTo>
                  <a:cubicBezTo>
                    <a:pt x="2532" y="448"/>
                    <a:pt x="2538" y="458"/>
                    <a:pt x="2540" y="469"/>
                  </a:cubicBezTo>
                  <a:cubicBezTo>
                    <a:pt x="2546" y="498"/>
                    <a:pt x="2537" y="545"/>
                    <a:pt x="2572" y="557"/>
                  </a:cubicBezTo>
                  <a:cubicBezTo>
                    <a:pt x="2590" y="581"/>
                    <a:pt x="2603" y="608"/>
                    <a:pt x="2628" y="625"/>
                  </a:cubicBezTo>
                  <a:cubicBezTo>
                    <a:pt x="2633" y="641"/>
                    <a:pt x="2649" y="654"/>
                    <a:pt x="2664" y="661"/>
                  </a:cubicBezTo>
                </a:path>
              </a:pathLst>
            </a:custGeom>
            <a:noFill/>
            <a:ln w="158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007400" y="4233960"/>
              <a:ext cx="1440" cy="46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75480" y="4230720"/>
              <a:ext cx="0" cy="79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2120" y="4229280"/>
              <a:ext cx="0" cy="93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8760" y="4226760"/>
              <a:ext cx="0" cy="118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75400" y="4207320"/>
              <a:ext cx="0" cy="313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42040" y="4210920"/>
              <a:ext cx="0" cy="2772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08680" y="4182480"/>
              <a:ext cx="1440" cy="561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76760" y="4173840"/>
              <a:ext cx="0" cy="644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40520" y="4164480"/>
              <a:ext cx="3240" cy="7416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10040" y="4186800"/>
              <a:ext cx="0" cy="5184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76680" y="4205160"/>
              <a:ext cx="0" cy="33480"/>
            </a:xfrm>
            <a:prstGeom prst="line">
              <a:avLst/>
            </a:prstGeom>
            <a:ln w="158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083360" y="2752560"/>
            <a:ext cx="648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25" name=""/>
          <p:cNvSpPr/>
          <p:nvPr/>
        </p:nvSpPr>
        <p:spPr>
          <a:xfrm>
            <a:off x="6659640" y="2298600"/>
            <a:ext cx="79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W25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218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26" name=""/>
          <p:cNvSpPr/>
          <p:nvPr/>
        </p:nvSpPr>
        <p:spPr>
          <a:xfrm>
            <a:off x="7091280" y="42051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27" name=""/>
          <p:cNvSpPr/>
          <p:nvPr/>
        </p:nvSpPr>
        <p:spPr>
          <a:xfrm>
            <a:off x="7039080" y="405936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28" name=""/>
          <p:cNvSpPr/>
          <p:nvPr/>
        </p:nvSpPr>
        <p:spPr>
          <a:xfrm>
            <a:off x="4668840" y="2790720"/>
            <a:ext cx="6480" cy="146052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29" name=""/>
          <p:cNvSpPr/>
          <p:nvPr/>
        </p:nvSpPr>
        <p:spPr>
          <a:xfrm>
            <a:off x="4226040" y="2308320"/>
            <a:ext cx="792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FI25L</a:t>
            </a:r>
            <a:br>
              <a:rPr sz="1400"/>
            </a:b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141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0" name=""/>
          <p:cNvSpPr/>
          <p:nvPr/>
        </p:nvSpPr>
        <p:spPr>
          <a:xfrm>
            <a:off x="4619520" y="3324240"/>
            <a:ext cx="100080" cy="10008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622760" y="3436920"/>
            <a:ext cx="100080" cy="10008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2" name=""/>
          <p:cNvSpPr/>
          <p:nvPr/>
        </p:nvSpPr>
        <p:spPr>
          <a:xfrm>
            <a:off x="3843360" y="428004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3" name=""/>
          <p:cNvSpPr/>
          <p:nvPr/>
        </p:nvSpPr>
        <p:spPr>
          <a:xfrm>
            <a:off x="5521320" y="426888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4" name=""/>
          <p:cNvSpPr/>
          <p:nvPr/>
        </p:nvSpPr>
        <p:spPr>
          <a:xfrm>
            <a:off x="7201080" y="427212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5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F2F798CA-8A75-4E30-8E51-F85D66EBDE56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6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7" name=""/>
          <p:cNvSpPr/>
          <p:nvPr/>
        </p:nvSpPr>
        <p:spPr>
          <a:xfrm>
            <a:off x="3368520" y="27813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8" name=""/>
          <p:cNvSpPr/>
          <p:nvPr/>
        </p:nvSpPr>
        <p:spPr>
          <a:xfrm>
            <a:off x="3297240" y="30686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39" name=""/>
          <p:cNvSpPr/>
          <p:nvPr/>
        </p:nvSpPr>
        <p:spPr>
          <a:xfrm>
            <a:off x="3368520" y="3357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0" name=""/>
          <p:cNvSpPr/>
          <p:nvPr/>
        </p:nvSpPr>
        <p:spPr>
          <a:xfrm>
            <a:off x="3297240" y="3645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1" name=""/>
          <p:cNvSpPr/>
          <p:nvPr/>
        </p:nvSpPr>
        <p:spPr>
          <a:xfrm>
            <a:off x="3368520" y="3933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2" name=""/>
          <p:cNvSpPr/>
          <p:nvPr/>
        </p:nvSpPr>
        <p:spPr>
          <a:xfrm>
            <a:off x="3297240" y="4221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3" name=""/>
          <p:cNvSpPr/>
          <p:nvPr/>
        </p:nvSpPr>
        <p:spPr>
          <a:xfrm>
            <a:off x="2523960" y="283212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4" name=""/>
          <p:cNvSpPr/>
          <p:nvPr/>
        </p:nvSpPr>
        <p:spPr>
          <a:xfrm>
            <a:off x="2523960" y="340848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5" name=""/>
          <p:cNvSpPr/>
          <p:nvPr/>
        </p:nvSpPr>
        <p:spPr>
          <a:xfrm>
            <a:off x="2523960" y="398448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6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7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8" name=""/>
          <p:cNvSpPr/>
          <p:nvPr/>
        </p:nvSpPr>
        <p:spPr>
          <a:xfrm>
            <a:off x="3967200" y="3219480"/>
            <a:ext cx="2881440" cy="8715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49" name=""/>
          <p:cNvSpPr/>
          <p:nvPr/>
        </p:nvSpPr>
        <p:spPr>
          <a:xfrm>
            <a:off x="4902120" y="3406680"/>
            <a:ext cx="125640" cy="184320"/>
          </a:xfrm>
          <a:custGeom>
            <a:avLst/>
            <a:gdLst/>
            <a:ahLst/>
            <a:rect l="l" t="t" r="r" b="b"/>
            <a:pathLst>
              <a:path w="61" h="92">
                <a:moveTo>
                  <a:pt x="0" y="92"/>
                </a:moveTo>
                <a:lnTo>
                  <a:pt x="52" y="77"/>
                </a:lnTo>
                <a:lnTo>
                  <a:pt x="61" y="41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50" name=""/>
          <p:cNvSpPr/>
          <p:nvPr/>
        </p:nvSpPr>
        <p:spPr>
          <a:xfrm>
            <a:off x="5711760" y="3651120"/>
            <a:ext cx="115920" cy="174600"/>
          </a:xfrm>
          <a:custGeom>
            <a:avLst/>
            <a:gdLst/>
            <a:ahLst/>
            <a:rect l="l" t="t" r="r" b="b"/>
            <a:pathLst>
              <a:path w="61" h="92">
                <a:moveTo>
                  <a:pt x="0" y="92"/>
                </a:moveTo>
                <a:lnTo>
                  <a:pt x="52" y="77"/>
                </a:lnTo>
                <a:lnTo>
                  <a:pt x="61" y="41"/>
                </a:lnTo>
                <a:lnTo>
                  <a:pt x="28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51" name=""/>
          <p:cNvSpPr/>
          <p:nvPr/>
        </p:nvSpPr>
        <p:spPr>
          <a:xfrm>
            <a:off x="528480" y="5027760"/>
            <a:ext cx="5696280" cy="925200"/>
          </a:xfrm>
          <a:prstGeom prst="wedgeRectCallout">
            <a:avLst>
              <a:gd name="adj1" fmla="val 38490"/>
              <a:gd name="adj2" fmla="val -192708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magenta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FMC Approach Glidepath Angle Lin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s displayed for approaches that include a designated approach angl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line extends 10 NM for situational awareness and is anchored to the missed approach waypoint, not the runway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3317760" y="2679840"/>
            <a:ext cx="4335480" cy="212760"/>
            <a:chOff x="3317760" y="2679840"/>
            <a:chExt cx="4335480" cy="212760"/>
          </a:xfrm>
        </p:grpSpPr>
        <p:sp>
          <p:nvSpPr>
            <p:cNvPr id="853" name=""/>
            <p:cNvSpPr/>
            <p:nvPr/>
          </p:nvSpPr>
          <p:spPr>
            <a:xfrm>
              <a:off x="3317760" y="267984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279432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338640" y="3914640"/>
            <a:ext cx="4268520" cy="222120"/>
            <a:chOff x="3338640" y="3914640"/>
            <a:chExt cx="4268520" cy="222120"/>
          </a:xfrm>
        </p:grpSpPr>
        <p:sp>
          <p:nvSpPr>
            <p:cNvPr id="856" name=""/>
            <p:cNvSpPr/>
            <p:nvPr/>
          </p:nvSpPr>
          <p:spPr>
            <a:xfrm>
              <a:off x="3338640" y="3914640"/>
              <a:ext cx="93600" cy="22212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0" y="0"/>
                  </a:moveTo>
                  <a:lnTo>
                    <a:pt x="0" y="140"/>
                  </a:lnTo>
                  <a:lnTo>
                    <a:pt x="59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4024080"/>
              <a:ext cx="4140000" cy="0"/>
            </a:xfrm>
            <a:prstGeom prst="line">
              <a:avLst/>
            </a:prstGeom>
            <a:ln w="19080">
              <a:solidFill>
                <a:srgbClr val="66ff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936960" y="3213000"/>
            <a:ext cx="2928960" cy="8715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59" name=""/>
          <p:cNvSpPr/>
          <p:nvPr/>
        </p:nvSpPr>
        <p:spPr>
          <a:xfrm>
            <a:off x="3317760" y="5016600"/>
            <a:ext cx="2657520" cy="925560"/>
          </a:xfrm>
          <a:prstGeom prst="wedgeRectCallout">
            <a:avLst>
              <a:gd name="adj1" fmla="val 47134"/>
              <a:gd name="adj2" fmla="val -180703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For approaches that do not have     a designated FMC approach angle, a cyan dashed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3-Degree Reference Line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s display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0" name=""/>
          <p:cNvSpPr/>
          <p:nvPr/>
        </p:nvSpPr>
        <p:spPr>
          <a:xfrm>
            <a:off x="7926480" y="1909800"/>
            <a:ext cx="1676160" cy="2421000"/>
          </a:xfrm>
          <a:prstGeom prst="wedgeRectCallout">
            <a:avLst>
              <a:gd name="adj1" fmla="val -173675"/>
              <a:gd name="adj2" fmla="val 22787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wo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Decision Gates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re displayed, the first one (white) at 1000 ft, the second one (amber) at 500 ft above field elevation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gates indicate suggested points where the airplane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should be path and speed stabl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n approach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1" name=""/>
          <p:cNvSpPr/>
          <p:nvPr/>
        </p:nvSpPr>
        <p:spPr>
          <a:xfrm>
            <a:off x="3641760" y="3114720"/>
            <a:ext cx="45072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2" name=""/>
          <p:cNvSpPr/>
          <p:nvPr/>
        </p:nvSpPr>
        <p:spPr>
          <a:xfrm>
            <a:off x="4175280" y="3278160"/>
            <a:ext cx="1265040" cy="31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3" name=""/>
          <p:cNvSpPr/>
          <p:nvPr/>
        </p:nvSpPr>
        <p:spPr>
          <a:xfrm>
            <a:off x="4361040" y="3284640"/>
            <a:ext cx="75960" cy="79200"/>
          </a:xfrm>
          <a:prstGeom prst="ellipse">
            <a:avLst/>
          </a:prstGeom>
          <a:solidFill>
            <a:srgbClr val="66ff33"/>
          </a:solidFill>
          <a:ln w="158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4" name=""/>
          <p:cNvSpPr/>
          <p:nvPr/>
        </p:nvSpPr>
        <p:spPr>
          <a:xfrm>
            <a:off x="5972040" y="5022720"/>
            <a:ext cx="1676520" cy="830520"/>
          </a:xfrm>
          <a:prstGeom prst="wedgeRectCallout">
            <a:avLst>
              <a:gd name="adj1" fmla="val -61175"/>
              <a:gd name="adj2" fmla="val -199138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Decision gate(s) that are below the missed approach altitude are not displayed…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65" name=""/>
          <p:cNvSpPr/>
          <p:nvPr/>
        </p:nvSpPr>
        <p:spPr>
          <a:xfrm>
            <a:off x="3703680" y="1220760"/>
            <a:ext cx="3581280" cy="830160"/>
          </a:xfrm>
          <a:prstGeom prst="wedgeRectCallout">
            <a:avLst>
              <a:gd name="adj1" fmla="val 6203"/>
              <a:gd name="adj2" fmla="val 234513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BARO minimums pointer and line turn amber when airplane descends below the selected minimum altitude. Reset with the RST switch     on the EFIS control panel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3336840" y="3479760"/>
            <a:ext cx="4268520" cy="222120"/>
            <a:chOff x="3336840" y="3479760"/>
            <a:chExt cx="4268520" cy="222120"/>
          </a:xfrm>
        </p:grpSpPr>
        <p:sp>
          <p:nvSpPr>
            <p:cNvPr id="867" name=""/>
            <p:cNvSpPr/>
            <p:nvPr/>
          </p:nvSpPr>
          <p:spPr>
            <a:xfrm>
              <a:off x="3336840" y="3479760"/>
              <a:ext cx="93600" cy="22212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0" y="0"/>
                  </a:moveTo>
                  <a:lnTo>
                    <a:pt x="0" y="140"/>
                  </a:lnTo>
                  <a:lnTo>
                    <a:pt x="59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5360" y="3589200"/>
              <a:ext cx="414000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4615E-006 2.96296E-006 L -3.84615E-006 -0.06204 E">
                                      <p:cBhvr>
                                        <p:cTn id="599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1538E-006 2.22222E-006 L 0.20962 0.09028 E">
                                      <p:cBhvr>
                                        <p:cTn id="61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0769E-006 -1.85185E-006 L 0.20961 0.09445 E">
                                      <p:cBhvr>
                                        <p:cTn id="618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0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1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2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3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4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5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6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7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8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79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0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1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7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8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89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1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2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894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7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8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ailure Flags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899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Failure Flags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4" name=""/>
          <p:cNvSpPr/>
          <p:nvPr/>
        </p:nvSpPr>
        <p:spPr>
          <a:xfrm>
            <a:off x="303120" y="39384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Failure Flags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5" name=""/>
          <p:cNvSpPr/>
          <p:nvPr/>
        </p:nvSpPr>
        <p:spPr>
          <a:xfrm>
            <a:off x="6688080" y="2241720"/>
            <a:ext cx="95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OD RTE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6" name=""/>
          <p:cNvSpPr/>
          <p:nvPr/>
        </p:nvSpPr>
        <p:spPr>
          <a:xfrm>
            <a:off x="3635280" y="2979720"/>
            <a:ext cx="29736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Narrow"/>
              </a:rPr>
              <a:t>MAP / TERR RANGE DISAGREE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7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09A164A7-3328-499C-BD3A-314C05794DA1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8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09" name=""/>
          <p:cNvSpPr/>
          <p:nvPr/>
        </p:nvSpPr>
        <p:spPr>
          <a:xfrm>
            <a:off x="652320" y="5018040"/>
            <a:ext cx="2533680" cy="287280"/>
          </a:xfrm>
          <a:prstGeom prst="wedgeRectCallout">
            <a:avLst>
              <a:gd name="adj1" fmla="val 53009"/>
              <a:gd name="adj2" fmla="val -30525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FMC runway data is not availabl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0" name=""/>
          <p:cNvSpPr/>
          <p:nvPr/>
        </p:nvSpPr>
        <p:spPr>
          <a:xfrm>
            <a:off x="3726000" y="4995720"/>
            <a:ext cx="1676160" cy="478080"/>
          </a:xfrm>
          <a:prstGeom prst="wedgeRectCallout">
            <a:avLst>
              <a:gd name="adj1" fmla="val 117615"/>
              <a:gd name="adj2" fmla="val -185546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EGPWS terrain data is not availabl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1" name=""/>
          <p:cNvSpPr/>
          <p:nvPr/>
        </p:nvSpPr>
        <p:spPr>
          <a:xfrm>
            <a:off x="2967120" y="3987720"/>
            <a:ext cx="1287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Narrow"/>
              </a:rPr>
              <a:t>RWY DATA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2" name=""/>
          <p:cNvSpPr/>
          <p:nvPr/>
        </p:nvSpPr>
        <p:spPr>
          <a:xfrm>
            <a:off x="6327720" y="4071960"/>
            <a:ext cx="1287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Narrow"/>
              </a:rPr>
              <a:t>VSD TERR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3" name=""/>
          <p:cNvSpPr/>
          <p:nvPr/>
        </p:nvSpPr>
        <p:spPr>
          <a:xfrm>
            <a:off x="4441680" y="3367080"/>
            <a:ext cx="1287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Narrow"/>
              </a:rPr>
              <a:t>VSD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4" name=""/>
          <p:cNvSpPr/>
          <p:nvPr/>
        </p:nvSpPr>
        <p:spPr>
          <a:xfrm>
            <a:off x="4857840" y="3419640"/>
            <a:ext cx="428400" cy="228600"/>
          </a:xfrm>
          <a:prstGeom prst="rect">
            <a:avLst/>
          </a:prstGeom>
          <a:noFill/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5" name=""/>
          <p:cNvSpPr/>
          <p:nvPr/>
        </p:nvSpPr>
        <p:spPr>
          <a:xfrm>
            <a:off x="5857920" y="4994280"/>
            <a:ext cx="2523960" cy="868320"/>
          </a:xfrm>
          <a:prstGeom prst="wedgeRectCallout">
            <a:avLst>
              <a:gd name="adj1" fmla="val -5472"/>
              <a:gd name="adj2" fmla="val -120199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nnunciation is replaced with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VSD TERR INHIBIT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when GPWS control panel TERR INHIBIT switch is in the inhibit position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6" name=""/>
          <p:cNvSpPr/>
          <p:nvPr/>
        </p:nvSpPr>
        <p:spPr>
          <a:xfrm>
            <a:off x="398520" y="773280"/>
            <a:ext cx="8439120" cy="1363320"/>
          </a:xfrm>
          <a:prstGeom prst="wedgeRectCallout">
            <a:avLst>
              <a:gd name="adj1" fmla="val -7675"/>
              <a:gd name="adj2" fmla="val 115541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MAP RANGE DISAGREE</a:t>
            </a:r>
            <a:br>
              <a:rPr sz="1200"/>
            </a:b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Indicates selected range on the EFIS control panel is different than the MAP display rang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TERR RANGE DISAGREE</a:t>
            </a:r>
            <a:br>
              <a:rPr sz="1200"/>
            </a:b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Indicates selected range on the EFIS control panel is different than the Terrain display rang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MAP/TERR RANGE DISAGREE </a:t>
            </a:r>
            <a:br>
              <a:rPr sz="1200"/>
            </a:b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      Indicates selected range on the EFIS control panel is different than the MAP and Terrain display ranges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7" name=""/>
          <p:cNvSpPr/>
          <p:nvPr/>
        </p:nvSpPr>
        <p:spPr>
          <a:xfrm>
            <a:off x="8020080" y="2489040"/>
            <a:ext cx="1676520" cy="1468440"/>
          </a:xfrm>
          <a:prstGeom prst="wedgeRectCallout">
            <a:avLst>
              <a:gd name="adj1" fmla="val -77842"/>
              <a:gd name="adj2" fmla="val -5000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Route Waypoints Modification Annunciation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;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FMC active route is being modified. Only the active waypoint  is display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18" name=""/>
          <p:cNvSpPr/>
          <p:nvPr/>
        </p:nvSpPr>
        <p:spPr>
          <a:xfrm>
            <a:off x="5494320" y="5049720"/>
            <a:ext cx="1676520" cy="658800"/>
          </a:xfrm>
          <a:prstGeom prst="wedgeRectCallout">
            <a:avLst>
              <a:gd name="adj1" fmla="val -74430"/>
              <a:gd name="adj2" fmla="val -26253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VSD feature has failed, the VSD cannot be display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8605800" y="4438800"/>
            <a:ext cx="885960" cy="171432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5954760" y="4079880"/>
            <a:ext cx="1639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 Narrow"/>
              </a:rPr>
              <a:t>VSD TERR INHIBIT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565200" y="2195640"/>
            <a:ext cx="3647880" cy="2733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71CDEEA3-E0D2-47FA-8559-A065B042AD2E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24" name=""/>
          <p:cNvSpPr/>
          <p:nvPr/>
        </p:nvSpPr>
        <p:spPr>
          <a:xfrm>
            <a:off x="2463840" y="507960"/>
            <a:ext cx="3767040" cy="2040120"/>
          </a:xfrm>
          <a:prstGeom prst="cloudCallout">
            <a:avLst>
              <a:gd name="adj1" fmla="val -51560"/>
              <a:gd name="adj2" fmla="val 63152"/>
            </a:avLst>
          </a:prstGeom>
          <a:solidFill>
            <a:srgbClr val="2a55aa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Forte"/>
              </a:rPr>
              <a:t>That’s all, folks</a:t>
            </a:r>
            <a:endParaRPr b="0" lang="en-US" sz="3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925" name=""/>
          <p:cNvSpPr/>
          <p:nvPr/>
        </p:nvSpPr>
        <p:spPr>
          <a:xfrm>
            <a:off x="4994280" y="3854520"/>
            <a:ext cx="4533840" cy="1674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bout 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is presentation is not copyright protected.  </a:t>
            </a:r>
            <a:br>
              <a:rPr sz="1200"/>
            </a:br>
            <a:br>
              <a:rPr sz="6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raining Captains may use this presentation and make changes        for unlimited use within your airline.</a:t>
            </a:r>
            <a:br>
              <a:rPr sz="1200"/>
            </a:br>
            <a:br>
              <a:rPr sz="6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at B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ON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is captain on Boeing 737-767 and author of  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B737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MRG.net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-  the pilot guide for B737 non-normals.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592200" y="6215040"/>
            <a:ext cx="3908520" cy="3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88520" y="3141360"/>
            <a:ext cx="8915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titud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ypoi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mb / Desc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ailure Flag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4520" y="6453360"/>
            <a:ext cx="231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5CD69F0A-F06D-413C-B1F2-A19676911A6C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944880" y="2386080"/>
            <a:ext cx="5961240" cy="4471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16360" y="2286000"/>
            <a:ext cx="3187800" cy="2965320"/>
          </a:xfrm>
          <a:custGeom>
            <a:avLst/>
            <a:gdLst/>
            <a:ahLst/>
            <a:rect l="l" t="t" r="r" b="b"/>
            <a:pathLst>
              <a:path w="2008" h="1868">
                <a:moveTo>
                  <a:pt x="612" y="1868"/>
                </a:moveTo>
                <a:lnTo>
                  <a:pt x="2008" y="724"/>
                </a:lnTo>
                <a:lnTo>
                  <a:pt x="1516" y="0"/>
                </a:lnTo>
                <a:lnTo>
                  <a:pt x="0" y="1204"/>
                </a:lnTo>
                <a:lnTo>
                  <a:pt x="612" y="1868"/>
                </a:lnTo>
                <a:close/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3" name=""/>
          <p:cNvSpPr/>
          <p:nvPr/>
        </p:nvSpPr>
        <p:spPr>
          <a:xfrm>
            <a:off x="501480" y="1542960"/>
            <a:ext cx="3178440" cy="747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is introduction to the VSD covers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following items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4" name=""/>
          <p:cNvSpPr/>
          <p:nvPr/>
        </p:nvSpPr>
        <p:spPr>
          <a:xfrm>
            <a:off x="501480" y="1542960"/>
            <a:ext cx="3178440" cy="38815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purpose of the VSD is to present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 clear graphical picture of the airplane’s vertical flight path for enhancing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flight crews’ vertical situation awarenes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The VSD depicts the vertical situation of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the airplane relative to the terrain throughout all phases of flight.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The VSD also depicts the vertical situation of the airplane relative to the runway during final approach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The VSD complements the increased use of constant-angle, area navigation and RNP approaches by providing immediate validation of the selected approach path and allowing full-time monitoring of the airplane position relative to the selected glide pa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0" nodeType="after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6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7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8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19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0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1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2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3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4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5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6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7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3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4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5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7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38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340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3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4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titudes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5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7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8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Altitudes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2" name=""/>
          <p:cNvSpPr/>
          <p:nvPr/>
        </p:nvSpPr>
        <p:spPr>
          <a:xfrm>
            <a:off x="307800" y="4176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Altitudes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3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4" name=""/>
          <p:cNvSpPr/>
          <p:nvPr/>
        </p:nvSpPr>
        <p:spPr>
          <a:xfrm>
            <a:off x="252360" y="2459160"/>
            <a:ext cx="1933560" cy="2420640"/>
          </a:xfrm>
          <a:prstGeom prst="wedgeRectCallout">
            <a:avLst>
              <a:gd name="adj1" fmla="val 77092"/>
              <a:gd name="adj2" fmla="val 11638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Altitude Reference Scal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s displayed on the left side.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scale changes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auto-matically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when selecting another horizontal rang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For all settings up to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80 NM, the scale ratio is fixed, so that a 3 degree approach will always appear the sam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5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6" name=""/>
          <p:cNvSpPr/>
          <p:nvPr/>
        </p:nvSpPr>
        <p:spPr>
          <a:xfrm>
            <a:off x="2505240" y="2852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7" name=""/>
          <p:cNvSpPr/>
          <p:nvPr/>
        </p:nvSpPr>
        <p:spPr>
          <a:xfrm>
            <a:off x="2505240" y="34290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8" name=""/>
          <p:cNvSpPr/>
          <p:nvPr/>
        </p:nvSpPr>
        <p:spPr>
          <a:xfrm>
            <a:off x="2505240" y="40053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59" name=""/>
          <p:cNvSpPr/>
          <p:nvPr/>
        </p:nvSpPr>
        <p:spPr>
          <a:xfrm>
            <a:off x="3368520" y="27813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60" name=""/>
          <p:cNvSpPr/>
          <p:nvPr/>
        </p:nvSpPr>
        <p:spPr>
          <a:xfrm>
            <a:off x="3297240" y="30686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61" name=""/>
          <p:cNvSpPr/>
          <p:nvPr/>
        </p:nvSpPr>
        <p:spPr>
          <a:xfrm>
            <a:off x="3368520" y="3357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62" name=""/>
          <p:cNvSpPr/>
          <p:nvPr/>
        </p:nvSpPr>
        <p:spPr>
          <a:xfrm>
            <a:off x="3297240" y="3645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63" name=""/>
          <p:cNvSpPr/>
          <p:nvPr/>
        </p:nvSpPr>
        <p:spPr>
          <a:xfrm>
            <a:off x="3368520" y="39337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64" name=""/>
          <p:cNvSpPr/>
          <p:nvPr/>
        </p:nvSpPr>
        <p:spPr>
          <a:xfrm>
            <a:off x="3297240" y="42210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317760" y="3089160"/>
            <a:ext cx="4335480" cy="212760"/>
            <a:chOff x="3317760" y="3089160"/>
            <a:chExt cx="4335480" cy="212760"/>
          </a:xfrm>
        </p:grpSpPr>
        <p:sp>
          <p:nvSpPr>
            <p:cNvPr id="366" name=""/>
            <p:cNvSpPr/>
            <p:nvPr/>
          </p:nvSpPr>
          <p:spPr>
            <a:xfrm>
              <a:off x="3317760" y="308916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7160" y="320364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322800" y="3894120"/>
            <a:ext cx="4268520" cy="222120"/>
            <a:chOff x="3322800" y="3894120"/>
            <a:chExt cx="4268520" cy="222120"/>
          </a:xfrm>
        </p:grpSpPr>
        <p:sp>
          <p:nvSpPr>
            <p:cNvPr id="369" name=""/>
            <p:cNvSpPr/>
            <p:nvPr/>
          </p:nvSpPr>
          <p:spPr>
            <a:xfrm>
              <a:off x="3322800" y="3894120"/>
              <a:ext cx="93600" cy="22212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0" y="0"/>
                  </a:moveTo>
                  <a:lnTo>
                    <a:pt x="0" y="140"/>
                  </a:lnTo>
                  <a:lnTo>
                    <a:pt x="59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1320" y="4003560"/>
              <a:ext cx="4140000" cy="0"/>
            </a:xfrm>
            <a:prstGeom prst="line">
              <a:avLst/>
            </a:prstGeom>
            <a:ln w="19080">
              <a:solidFill>
                <a:srgbClr val="66ff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670200" y="3371760"/>
            <a:ext cx="451080" cy="15264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2" name=""/>
          <p:cNvSpPr/>
          <p:nvPr/>
        </p:nvSpPr>
        <p:spPr>
          <a:xfrm>
            <a:off x="3843360" y="428004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3" name=""/>
          <p:cNvSpPr/>
          <p:nvPr/>
        </p:nvSpPr>
        <p:spPr>
          <a:xfrm>
            <a:off x="5521320" y="426888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4" name=""/>
          <p:cNvSpPr/>
          <p:nvPr/>
        </p:nvSpPr>
        <p:spPr>
          <a:xfrm>
            <a:off x="7201080" y="427212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80" name=""/>
          <p:cNvSpPr/>
          <p:nvPr/>
        </p:nvSpPr>
        <p:spPr>
          <a:xfrm>
            <a:off x="4203720" y="352116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81" name=""/>
          <p:cNvSpPr/>
          <p:nvPr/>
        </p:nvSpPr>
        <p:spPr>
          <a:xfrm>
            <a:off x="5108400" y="5229360"/>
            <a:ext cx="3505320" cy="839520"/>
          </a:xfrm>
          <a:prstGeom prst="wedgeRectCallout">
            <a:avLst>
              <a:gd name="adj1" fmla="val -51087"/>
              <a:gd name="adj2" fmla="val -141115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Horizontal Distance Scal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s displayed at the bottom of the VSD. The range shown on the VSD is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one half the range selected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n the EFIS control panel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8096400" y="3857760"/>
            <a:ext cx="1562040" cy="13334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7828920" y="4286160"/>
            <a:ext cx="476280" cy="295200"/>
          </a:xfrm>
          <a:prstGeom prst="rightArrow">
            <a:avLst>
              <a:gd name="adj1" fmla="val 50000"/>
              <a:gd name="adj2" fmla="val 40335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895400"/>
            <a:ext cx="1933560" cy="2144880"/>
          </a:xfrm>
          <a:prstGeom prst="wedgeRectCallout">
            <a:avLst>
              <a:gd name="adj1" fmla="val 123893"/>
              <a:gd name="adj2" fmla="val 25351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bottom of 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Airplane symbol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ndicates the current airplane altitude with reference to the Altitude Reference Scale on the left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(shown here is 4700 feet)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ltimeter info comes from ADIRU 1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276720"/>
            <a:ext cx="1942920" cy="1001520"/>
          </a:xfrm>
          <a:prstGeom prst="wedgeRectCallout">
            <a:avLst>
              <a:gd name="adj1" fmla="val 107435"/>
              <a:gd name="adj2" fmla="val -5697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MCP selected altitud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s indicated in magenta above the Altitude Ref. Scale and displayed by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 magenta dashed lin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096400" y="1833480"/>
            <a:ext cx="1457280" cy="1895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7857360" y="2478240"/>
            <a:ext cx="476280" cy="295200"/>
          </a:xfrm>
          <a:prstGeom prst="rightArrow">
            <a:avLst>
              <a:gd name="adj1" fmla="val 50000"/>
              <a:gd name="adj2" fmla="val 40335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5010120"/>
            <a:ext cx="2816280" cy="847800"/>
          </a:xfrm>
          <a:prstGeom prst="wedgeRectCallout">
            <a:avLst>
              <a:gd name="adj1" fmla="val 57495"/>
              <a:gd name="adj2" fmla="val -165166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BARO Minimums Pointer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displays the barometric minimums selected on the EFIS control panel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(shown here is 1800 feet)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408640" y="4829040"/>
            <a:ext cx="1285920" cy="10288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H="1">
            <a:off x="4807800" y="5191200"/>
            <a:ext cx="476280" cy="295200"/>
          </a:xfrm>
          <a:prstGeom prst="rightArrow">
            <a:avLst>
              <a:gd name="adj1" fmla="val 50000"/>
              <a:gd name="adj2" fmla="val 40335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1" name=""/>
          <p:cNvSpPr/>
          <p:nvPr/>
        </p:nvSpPr>
        <p:spPr>
          <a:xfrm flipH="1" rot="5400000">
            <a:off x="3206520" y="4730400"/>
            <a:ext cx="476280" cy="295200"/>
          </a:xfrm>
          <a:prstGeom prst="rightArrow">
            <a:avLst>
              <a:gd name="adj1" fmla="val 50000"/>
              <a:gd name="adj2" fmla="val 40335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 rot="10800000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3632040" y="5010120"/>
            <a:ext cx="1143000" cy="790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92117D19-8737-4621-8532-8561EFA0DD47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4" name=""/>
          <p:cNvSpPr/>
          <p:nvPr/>
        </p:nvSpPr>
        <p:spPr>
          <a:xfrm>
            <a:off x="6792840" y="5294160"/>
            <a:ext cx="2863800" cy="685800"/>
          </a:xfrm>
          <a:prstGeom prst="wedgeRectCallout">
            <a:avLst>
              <a:gd name="adj1" fmla="val -83648"/>
              <a:gd name="adj2" fmla="val -75694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When selecting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, the green line disappears and only the green pointer remains,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at the BARO altitud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5" name=""/>
          <p:cNvSpPr/>
          <p:nvPr/>
        </p:nvSpPr>
        <p:spPr>
          <a:xfrm>
            <a:off x="3457440" y="3914640"/>
            <a:ext cx="4191120" cy="142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5062680"/>
            <a:ext cx="3763800" cy="847440"/>
          </a:xfrm>
          <a:prstGeom prst="wedgeRectCallout">
            <a:avLst>
              <a:gd name="adj1" fmla="val -17861"/>
              <a:gd name="adj2" fmla="val -22996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Vertical Flight Path Vector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ndicates current flight path angle as a function of vertical speed and ground speed. The length of the white line is fixed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at one half of the horizontal rang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8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399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0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1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2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3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4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5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7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8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09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5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6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7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19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20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422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25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26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aypoints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27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29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0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-  Waypoints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4" name=""/>
          <p:cNvSpPr/>
          <p:nvPr/>
        </p:nvSpPr>
        <p:spPr>
          <a:xfrm>
            <a:off x="303120" y="39852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Waypoints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5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6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7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8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39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0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1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2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3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4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5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1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2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3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5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56" name=""/>
          <p:cNvSpPr/>
          <p:nvPr/>
        </p:nvSpPr>
        <p:spPr>
          <a:xfrm>
            <a:off x="630360" y="1351080"/>
            <a:ext cx="3504960" cy="639720"/>
          </a:xfrm>
          <a:prstGeom prst="wedgeRectCallout">
            <a:avLst>
              <a:gd name="adj1" fmla="val 53805"/>
              <a:gd name="adj2" fmla="val 122208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activ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Waypoint ID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s displayed in magenta, all other waypoints from the FMC LEGS Page within the selected range are displayed whit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975280" y="1343160"/>
            <a:ext cx="3635280" cy="2903400"/>
            <a:chOff x="5975280" y="1343160"/>
            <a:chExt cx="3635280" cy="2903400"/>
          </a:xfrm>
        </p:grpSpPr>
        <p:sp>
          <p:nvSpPr>
            <p:cNvPr id="458" name=""/>
            <p:cNvSpPr/>
            <p:nvPr/>
          </p:nvSpPr>
          <p:spPr>
            <a:xfrm>
              <a:off x="7269120" y="2786040"/>
              <a:ext cx="6480" cy="146052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26320" y="2322360"/>
              <a:ext cx="79200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FI25L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1410</a:t>
              </a:r>
              <a:endParaRPr b="0" lang="en-US" sz="1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9800" y="3890880"/>
              <a:ext cx="100080" cy="10008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0" y="0"/>
                  </a:moveTo>
                  <a:lnTo>
                    <a:pt x="99" y="0"/>
                  </a:lnTo>
                  <a:lnTo>
                    <a:pt x="51" y="8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223040" y="4003560"/>
              <a:ext cx="100080" cy="10008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0" y="0"/>
                  </a:moveTo>
                  <a:lnTo>
                    <a:pt x="99" y="0"/>
                  </a:lnTo>
                  <a:lnTo>
                    <a:pt x="51" y="8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975280" y="1343160"/>
              <a:ext cx="3635280" cy="647640"/>
              <a:chOff x="5975280" y="1343160"/>
              <a:chExt cx="3635280" cy="647640"/>
            </a:xfrm>
          </p:grpSpPr>
          <p:sp>
            <p:nvSpPr>
              <p:cNvPr id="463" name=""/>
              <p:cNvSpPr/>
              <p:nvPr/>
            </p:nvSpPr>
            <p:spPr>
              <a:xfrm>
                <a:off x="7788240" y="1919160"/>
                <a:ext cx="1690560" cy="52560"/>
              </a:xfrm>
              <a:prstGeom prst="wedgeRectCallout">
                <a:avLst>
                  <a:gd name="adj1" fmla="val -78074"/>
                  <a:gd name="adj2" fmla="val 3592425"/>
                </a:avLst>
              </a:prstGeom>
              <a:solidFill>
                <a:srgbClr val="ffff66">
                  <a:alpha val="4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UIType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53320" y="1866960"/>
                <a:ext cx="1857240" cy="123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UIType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75280" y="1343160"/>
                <a:ext cx="3505320" cy="630000"/>
              </a:xfrm>
              <a:prstGeom prst="wedgeRectCallout">
                <a:avLst>
                  <a:gd name="adj1" fmla="val -38041"/>
                  <a:gd name="adj2" fmla="val 313726"/>
                </a:avLst>
              </a:prstGeom>
              <a:solidFill>
                <a:srgbClr val="ffff66">
                  <a:alpha val="40000"/>
                </a:srgbClr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6633"/>
                    </a:solidFill>
                    <a:latin typeface="Arial"/>
                  </a:rPr>
                  <a:t>Different </a:t>
                </a:r>
                <a:r>
                  <a:rPr b="1" lang="en-US" sz="1200" spc="-1" strike="noStrike">
                    <a:solidFill>
                      <a:srgbClr val="996633"/>
                    </a:solidFill>
                    <a:latin typeface="Arial"/>
                  </a:rPr>
                  <a:t>Altitude Constraint Symbols </a:t>
                </a:r>
                <a:r>
                  <a:rPr b="0" lang="en-US" sz="1200" spc="-1" strike="noStrike">
                    <a:solidFill>
                      <a:srgbClr val="996633"/>
                    </a:solidFill>
                    <a:latin typeface="Arial"/>
                  </a:rPr>
                  <a:t>are displayed according to restrictions programmed in the FMC LEGS Page.</a:t>
                </a:r>
                <a:endParaRPr b="0" lang="en-US" sz="1200" spc="-1" strike="noStrike">
                  <a:solidFill>
                    <a:srgbClr val="000000"/>
                  </a:solidFill>
                  <a:latin typeface="TUIType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468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C3404F77-B6A1-409A-B371-E19743CF468E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1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128680" y="681120"/>
            <a:ext cx="5648400" cy="54957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Waypoints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6" name=""/>
          <p:cNvSpPr/>
          <p:nvPr/>
        </p:nvSpPr>
        <p:spPr>
          <a:xfrm>
            <a:off x="303120" y="39852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Waypoints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7" name=""/>
          <p:cNvSpPr/>
          <p:nvPr/>
        </p:nvSpPr>
        <p:spPr>
          <a:xfrm>
            <a:off x="2122560" y="647640"/>
            <a:ext cx="1536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GS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61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AS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59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8" name=""/>
          <p:cNvSpPr/>
          <p:nvPr/>
        </p:nvSpPr>
        <p:spPr>
          <a:xfrm>
            <a:off x="496800" y="1494000"/>
            <a:ext cx="1486080" cy="2382840"/>
          </a:xfrm>
          <a:prstGeom prst="wedgeRectCallout">
            <a:avLst>
              <a:gd name="adj1" fmla="val 232050"/>
              <a:gd name="adj2" fmla="val -3574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Only waypoints within the cyan dashed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Enroute Swath lines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are displayed on the VS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n this exampl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DME04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is outside the enroute swath and therefore not displayed on the VS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79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65158FAF-45A5-4FDA-8FF0-D84994E645CB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0" name=""/>
          <p:cNvSpPr/>
          <p:nvPr/>
        </p:nvSpPr>
        <p:spPr>
          <a:xfrm>
            <a:off x="6816600" y="66996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TUE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1" name=""/>
          <p:cNvSpPr/>
          <p:nvPr/>
        </p:nvSpPr>
        <p:spPr>
          <a:xfrm>
            <a:off x="6862680" y="849240"/>
            <a:ext cx="925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18:03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Z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2" name=""/>
          <p:cNvSpPr/>
          <p:nvPr/>
        </p:nvSpPr>
        <p:spPr>
          <a:xfrm>
            <a:off x="6107040" y="1055520"/>
            <a:ext cx="1536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1.0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676400" y="1590840"/>
            <a:ext cx="9720" cy="1704960"/>
          </a:xfrm>
          <a:prstGeom prst="line">
            <a:avLst/>
          </a:prstGeom>
          <a:ln w="2844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4" name=""/>
          <p:cNvSpPr/>
          <p:nvPr/>
        </p:nvSpPr>
        <p:spPr>
          <a:xfrm>
            <a:off x="5516640" y="4576680"/>
            <a:ext cx="6120" cy="12416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5" name=""/>
          <p:cNvSpPr/>
          <p:nvPr/>
        </p:nvSpPr>
        <p:spPr>
          <a:xfrm>
            <a:off x="5092560" y="4265640"/>
            <a:ext cx="792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I28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828680" y="4530600"/>
            <a:ext cx="3240" cy="12510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7" name=""/>
          <p:cNvSpPr/>
          <p:nvPr/>
        </p:nvSpPr>
        <p:spPr>
          <a:xfrm>
            <a:off x="4437000" y="422928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TUE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8" name=""/>
          <p:cNvSpPr/>
          <p:nvPr/>
        </p:nvSpPr>
        <p:spPr>
          <a:xfrm>
            <a:off x="8010360" y="4673520"/>
            <a:ext cx="1486080" cy="1725840"/>
          </a:xfrm>
          <a:prstGeom prst="wedgeRectCallout">
            <a:avLst>
              <a:gd name="adj1" fmla="val -242949"/>
              <a:gd name="adj2" fmla="val -11918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enroute swath lines ar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inhibited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n takeoff and in approach when the airplane is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within 6 NM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f the runway and less than 3000 ft above field elevation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89" name=""/>
          <p:cNvSpPr/>
          <p:nvPr/>
        </p:nvSpPr>
        <p:spPr>
          <a:xfrm>
            <a:off x="399960" y="4930920"/>
            <a:ext cx="1552680" cy="944280"/>
          </a:xfrm>
          <a:prstGeom prst="wedgeRectCallout">
            <a:avLst>
              <a:gd name="adj1" fmla="val 236504"/>
              <a:gd name="adj2" fmla="val -227310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enroute swath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s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1 NM on each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sid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of the airplane </a:t>
            </a: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actual track line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0" name=""/>
          <p:cNvSpPr/>
          <p:nvPr/>
        </p:nvSpPr>
        <p:spPr>
          <a:xfrm>
            <a:off x="8008920" y="1195560"/>
            <a:ext cx="1486080" cy="1744560"/>
          </a:xfrm>
          <a:prstGeom prst="wedgeRectCallout">
            <a:avLst>
              <a:gd name="adj1" fmla="val -216666"/>
              <a:gd name="adj2" fmla="val -1797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During turns, the swath edge on the inside of the turn opens in the direction of the turn.  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swath angle increases with the bank angle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1" name=""/>
          <p:cNvSpPr/>
          <p:nvPr/>
        </p:nvSpPr>
        <p:spPr>
          <a:xfrm>
            <a:off x="6296040" y="4575240"/>
            <a:ext cx="6480" cy="12412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2" name=""/>
          <p:cNvSpPr/>
          <p:nvPr/>
        </p:nvSpPr>
        <p:spPr>
          <a:xfrm>
            <a:off x="5872320" y="4264200"/>
            <a:ext cx="792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ME04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3" name=""/>
          <p:cNvSpPr/>
          <p:nvPr/>
        </p:nvSpPr>
        <p:spPr>
          <a:xfrm>
            <a:off x="485640" y="4035600"/>
            <a:ext cx="1486080" cy="658800"/>
          </a:xfrm>
          <a:prstGeom prst="wedgeRectCallout">
            <a:avLst>
              <a:gd name="adj1" fmla="val -1921"/>
              <a:gd name="adj2" fmla="val -566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same goes for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Terrain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profiles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(see further)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4" name=""/>
          <p:cNvSpPr/>
          <p:nvPr/>
        </p:nvSpPr>
        <p:spPr>
          <a:xfrm>
            <a:off x="8008920" y="3081240"/>
            <a:ext cx="1486080" cy="1487520"/>
          </a:xfrm>
          <a:prstGeom prst="wedgeRectCallout">
            <a:avLst>
              <a:gd name="adj1" fmla="val -147435"/>
              <a:gd name="adj2" fmla="val 38152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DME04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will now show on the VSD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8082000" y="3138480"/>
            <a:ext cx="1334880" cy="9129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175360" y="1584360"/>
            <a:ext cx="374400" cy="1708200"/>
          </a:xfrm>
          <a:custGeom>
            <a:avLst/>
            <a:gdLst/>
            <a:ahLst/>
            <a:rect l="l" t="t" r="r" b="b"/>
            <a:pathLst>
              <a:path w="228" h="960">
                <a:moveTo>
                  <a:pt x="0" y="960"/>
                </a:moveTo>
                <a:lnTo>
                  <a:pt x="2" y="0"/>
                </a:lnTo>
                <a:lnTo>
                  <a:pt x="52" y="2"/>
                </a:lnTo>
                <a:lnTo>
                  <a:pt x="128" y="16"/>
                </a:lnTo>
                <a:lnTo>
                  <a:pt x="196" y="36"/>
                </a:lnTo>
                <a:lnTo>
                  <a:pt x="228" y="52"/>
                </a:lnTo>
                <a:lnTo>
                  <a:pt x="0" y="960"/>
                </a:lnTo>
                <a:close/>
              </a:path>
            </a:pathLst>
          </a:cu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180040" y="1579680"/>
            <a:ext cx="9360" cy="1704960"/>
          </a:xfrm>
          <a:prstGeom prst="line">
            <a:avLst/>
          </a:prstGeom>
          <a:ln w="2844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84360" y="1604880"/>
            <a:ext cx="166680" cy="1657440"/>
          </a:xfrm>
          <a:prstGeom prst="line">
            <a:avLst/>
          </a:prstGeom>
          <a:ln w="2844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183280" y="1663560"/>
            <a:ext cx="350640" cy="1587600"/>
          </a:xfrm>
          <a:prstGeom prst="line">
            <a:avLst/>
          </a:prstGeom>
          <a:ln w="2844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0" name=""/>
          <p:cNvSpPr/>
          <p:nvPr/>
        </p:nvSpPr>
        <p:spPr>
          <a:xfrm>
            <a:off x="4889520" y="28386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TUE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1" name=""/>
          <p:cNvSpPr/>
          <p:nvPr/>
        </p:nvSpPr>
        <p:spPr>
          <a:xfrm>
            <a:off x="4870440" y="242892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I28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2" name=""/>
          <p:cNvSpPr/>
          <p:nvPr/>
        </p:nvSpPr>
        <p:spPr>
          <a:xfrm>
            <a:off x="5211720" y="19796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ME04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4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5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6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7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8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IType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09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0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1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2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3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4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5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1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2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3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5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26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UIType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TUIType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528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1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b2b2b2">
              <a:alpha val="6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2" name=""/>
          <p:cNvSpPr/>
          <p:nvPr/>
        </p:nvSpPr>
        <p:spPr>
          <a:xfrm>
            <a:off x="1933560" y="3146400"/>
            <a:ext cx="6338880" cy="755640"/>
          </a:xfrm>
          <a:prstGeom prst="rect">
            <a:avLst/>
          </a:prstGeom>
          <a:solidFill>
            <a:srgbClr val="dddddd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mb / Descent</a:t>
            </a:r>
            <a:endParaRPr b="0" lang="en-US" sz="3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3" name=""/>
          <p:cNvSpPr/>
          <p:nvPr/>
        </p:nvSpPr>
        <p:spPr>
          <a:xfrm>
            <a:off x="193680" y="18900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5" name=""/>
          <p:cNvSpPr/>
          <p:nvPr/>
        </p:nvSpPr>
        <p:spPr>
          <a:xfrm>
            <a:off x="4195800" y="3138480"/>
            <a:ext cx="3314520" cy="1023840"/>
          </a:xfrm>
          <a:custGeom>
            <a:avLst/>
            <a:gdLst/>
            <a:ahLst/>
            <a:rect l="l" t="t" r="r" b="b"/>
            <a:pathLst>
              <a:path w="2097" h="645">
                <a:moveTo>
                  <a:pt x="0" y="0"/>
                </a:moveTo>
                <a:lnTo>
                  <a:pt x="2097" y="3"/>
                </a:lnTo>
                <a:lnTo>
                  <a:pt x="2097" y="645"/>
                </a:lnTo>
                <a:lnTo>
                  <a:pt x="0" y="0"/>
                </a:lnTo>
                <a:close/>
              </a:path>
            </a:pathLst>
          </a:cu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6" name=""/>
          <p:cNvSpPr/>
          <p:nvPr/>
        </p:nvSpPr>
        <p:spPr>
          <a:xfrm>
            <a:off x="3463920" y="4262400"/>
            <a:ext cx="4216320" cy="309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7" name=""/>
          <p:cNvSpPr/>
          <p:nvPr/>
        </p:nvSpPr>
        <p:spPr>
          <a:xfrm>
            <a:off x="2505240" y="2595600"/>
            <a:ext cx="933120" cy="1985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6237360"/>
            <a:ext cx="7832880" cy="620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3320" y="188640"/>
            <a:ext cx="89154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troduction to the B737-NG Vertical Situation Display (VSD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3680" y="6237360"/>
            <a:ext cx="788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VSD display  -  Climb / Descent</a:t>
            </a:r>
            <a:endParaRPr b="0" lang="en-US" sz="18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1" name=""/>
          <p:cNvSpPr/>
          <p:nvPr/>
        </p:nvSpPr>
        <p:spPr>
          <a:xfrm>
            <a:off x="303120" y="398520"/>
            <a:ext cx="8915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99ff"/>
                </a:solidFill>
                <a:latin typeface="Wingdings"/>
                <a:ea typeface="Wingdings"/>
              </a:rPr>
              <a:t>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399ff"/>
                </a:solidFill>
                <a:latin typeface="Arial"/>
              </a:rPr>
              <a:t>Climb / Descent</a:t>
            </a:r>
            <a:endParaRPr b="0" lang="en-US" sz="9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2" name=""/>
          <p:cNvSpPr/>
          <p:nvPr/>
        </p:nvSpPr>
        <p:spPr>
          <a:xfrm>
            <a:off x="2505240" y="2276640"/>
            <a:ext cx="5184720" cy="2304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3" name=""/>
          <p:cNvSpPr/>
          <p:nvPr/>
        </p:nvSpPr>
        <p:spPr>
          <a:xfrm>
            <a:off x="2505240" y="25844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4" name=""/>
          <p:cNvSpPr/>
          <p:nvPr/>
        </p:nvSpPr>
        <p:spPr>
          <a:xfrm>
            <a:off x="2505240" y="3160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5" name=""/>
          <p:cNvSpPr/>
          <p:nvPr/>
        </p:nvSpPr>
        <p:spPr>
          <a:xfrm>
            <a:off x="2505240" y="37368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6" name=""/>
          <p:cNvSpPr/>
          <p:nvPr/>
        </p:nvSpPr>
        <p:spPr>
          <a:xfrm>
            <a:off x="3368520" y="425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7" name=""/>
          <p:cNvSpPr/>
          <p:nvPr/>
        </p:nvSpPr>
        <p:spPr>
          <a:xfrm>
            <a:off x="329724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8" name=""/>
          <p:cNvSpPr/>
          <p:nvPr/>
        </p:nvSpPr>
        <p:spPr>
          <a:xfrm>
            <a:off x="3368520" y="308916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49" name=""/>
          <p:cNvSpPr/>
          <p:nvPr/>
        </p:nvSpPr>
        <p:spPr>
          <a:xfrm>
            <a:off x="3297240" y="3376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0" name=""/>
          <p:cNvSpPr/>
          <p:nvPr/>
        </p:nvSpPr>
        <p:spPr>
          <a:xfrm>
            <a:off x="3368520" y="3665520"/>
            <a:ext cx="71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1" name=""/>
          <p:cNvSpPr/>
          <p:nvPr/>
        </p:nvSpPr>
        <p:spPr>
          <a:xfrm>
            <a:off x="3297240" y="395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2" name=""/>
          <p:cNvSpPr/>
          <p:nvPr/>
        </p:nvSpPr>
        <p:spPr>
          <a:xfrm>
            <a:off x="3651120" y="2990880"/>
            <a:ext cx="451080" cy="152280"/>
          </a:xfrm>
          <a:custGeom>
            <a:avLst/>
            <a:gdLst/>
            <a:ahLst/>
            <a:rect l="l" t="t" r="r" b="b"/>
            <a:pathLst>
              <a:path w="284" h="96">
                <a:moveTo>
                  <a:pt x="0" y="0"/>
                </a:moveTo>
                <a:lnTo>
                  <a:pt x="0" y="96"/>
                </a:lnTo>
                <a:lnTo>
                  <a:pt x="284" y="96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3" name=""/>
          <p:cNvSpPr/>
          <p:nvPr/>
        </p:nvSpPr>
        <p:spPr>
          <a:xfrm>
            <a:off x="3843360" y="428004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1353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75200" y="426852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816520" y="425880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656400" y="4263840"/>
            <a:ext cx="0" cy="6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497720" y="4263840"/>
            <a:ext cx="0" cy="10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59" name=""/>
          <p:cNvSpPr/>
          <p:nvPr/>
        </p:nvSpPr>
        <p:spPr>
          <a:xfrm>
            <a:off x="6345360" y="2786040"/>
            <a:ext cx="6120" cy="14605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0" name=""/>
          <p:cNvSpPr/>
          <p:nvPr/>
        </p:nvSpPr>
        <p:spPr>
          <a:xfrm>
            <a:off x="5902200" y="2322360"/>
            <a:ext cx="792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RVOL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L180B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1" name=""/>
          <p:cNvSpPr/>
          <p:nvPr/>
        </p:nvSpPr>
        <p:spPr>
          <a:xfrm>
            <a:off x="6296040" y="3691080"/>
            <a:ext cx="100080" cy="99720"/>
          </a:xfrm>
          <a:custGeom>
            <a:avLst/>
            <a:gdLst/>
            <a:ahLst/>
            <a:rect l="l" t="t" r="r" b="b"/>
            <a:pathLst>
              <a:path w="99" h="81">
                <a:moveTo>
                  <a:pt x="0" y="0"/>
                </a:moveTo>
                <a:lnTo>
                  <a:pt x="99" y="0"/>
                </a:lnTo>
                <a:lnTo>
                  <a:pt x="51" y="8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4619160" y="2625840"/>
            <a:ext cx="3240" cy="1612800"/>
          </a:xfrm>
          <a:prstGeom prst="line">
            <a:avLst/>
          </a:prstGeom>
          <a:ln w="1908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3" name=""/>
          <p:cNvSpPr/>
          <p:nvPr/>
        </p:nvSpPr>
        <p:spPr>
          <a:xfrm>
            <a:off x="4170240" y="231444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 Narrow"/>
              </a:rPr>
              <a:t>VEKIN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219800" y="4819680"/>
            <a:ext cx="2476800" cy="17906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7367760" y="507348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000</a:t>
            </a:r>
            <a:endParaRPr b="0" lang="en-US" sz="1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6" name=""/>
          <p:cNvSpPr/>
          <p:nvPr/>
        </p:nvSpPr>
        <p:spPr>
          <a:xfrm>
            <a:off x="8613720" y="50720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250</a:t>
            </a:r>
            <a:endParaRPr b="0" lang="en-US" sz="1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67" name=""/>
          <p:cNvSpPr/>
          <p:nvPr/>
        </p:nvSpPr>
        <p:spPr>
          <a:xfrm>
            <a:off x="2505240" y="22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ff33cc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317760" y="3699000"/>
            <a:ext cx="4335480" cy="212760"/>
            <a:chOff x="3317760" y="3699000"/>
            <a:chExt cx="4335480" cy="212760"/>
          </a:xfrm>
        </p:grpSpPr>
        <p:sp>
          <p:nvSpPr>
            <p:cNvPr id="569" name=""/>
            <p:cNvSpPr/>
            <p:nvPr/>
          </p:nvSpPr>
          <p:spPr>
            <a:xfrm>
              <a:off x="3317760" y="3699000"/>
              <a:ext cx="122400" cy="21276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91" y="0"/>
                  </a:lnTo>
                  <a:lnTo>
                    <a:pt x="91" y="181"/>
                  </a:lnTo>
                  <a:lnTo>
                    <a:pt x="0" y="181"/>
                  </a:lnTo>
                  <a:lnTo>
                    <a:pt x="0" y="154"/>
                  </a:lnTo>
                  <a:lnTo>
                    <a:pt x="77" y="9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7160" y="3813480"/>
              <a:ext cx="4186080" cy="0"/>
            </a:xfrm>
            <a:prstGeom prst="line">
              <a:avLst/>
            </a:prstGeom>
            <a:ln w="255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UIType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5521320" y="4268880"/>
            <a:ext cx="59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2" name=""/>
          <p:cNvSpPr/>
          <p:nvPr/>
        </p:nvSpPr>
        <p:spPr>
          <a:xfrm>
            <a:off x="7201080" y="4272120"/>
            <a:ext cx="59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3" name=""/>
          <p:cNvSpPr/>
          <p:nvPr/>
        </p:nvSpPr>
        <p:spPr>
          <a:xfrm>
            <a:off x="2254320" y="4857840"/>
            <a:ext cx="4695840" cy="1020600"/>
          </a:xfrm>
          <a:prstGeom prst="wedgeRectCallout">
            <a:avLst>
              <a:gd name="adj1" fmla="val 31134"/>
              <a:gd name="adj2" fmla="val -218893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996633"/>
                </a:solidFill>
                <a:latin typeface="Arial"/>
              </a:rPr>
              <a:t>MCP selected Vertical Speed 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is displayed by a magenta dotted line. The line appears only when the V/S mode on the MCP is select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You can use this line the same way as the “green banana” to adjust the required rate of climb or rate of descent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4" name=""/>
          <p:cNvSpPr/>
          <p:nvPr/>
        </p:nvSpPr>
        <p:spPr>
          <a:xfrm>
            <a:off x="4221000" y="3144960"/>
            <a:ext cx="3310200" cy="101916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5" name=""/>
          <p:cNvSpPr/>
          <p:nvPr/>
        </p:nvSpPr>
        <p:spPr>
          <a:xfrm>
            <a:off x="8097840" y="6434280"/>
            <a:ext cx="1644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Slide </a:t>
            </a:r>
            <a:fld id="{9F978468-A04B-4F51-998A-E971F1F2FE2C}" type="slidenum">
              <a:rPr b="0" lang="en-US" sz="12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6" name=""/>
          <p:cNvSpPr/>
          <p:nvPr/>
        </p:nvSpPr>
        <p:spPr>
          <a:xfrm>
            <a:off x="4200480" y="3133800"/>
            <a:ext cx="3309840" cy="468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7" name=""/>
          <p:cNvSpPr/>
          <p:nvPr/>
        </p:nvSpPr>
        <p:spPr>
          <a:xfrm>
            <a:off x="4194000" y="3132000"/>
            <a:ext cx="3314880" cy="22068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8" name=""/>
          <p:cNvSpPr/>
          <p:nvPr/>
        </p:nvSpPr>
        <p:spPr>
          <a:xfrm>
            <a:off x="4202280" y="3129120"/>
            <a:ext cx="3306600" cy="44100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79" name=""/>
          <p:cNvSpPr/>
          <p:nvPr/>
        </p:nvSpPr>
        <p:spPr>
          <a:xfrm>
            <a:off x="4222800" y="3149640"/>
            <a:ext cx="3298680" cy="73800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0" name=""/>
          <p:cNvSpPr/>
          <p:nvPr/>
        </p:nvSpPr>
        <p:spPr>
          <a:xfrm>
            <a:off x="8613720" y="50720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500</a:t>
            </a:r>
            <a:endParaRPr b="0" lang="en-US" sz="1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1" name=""/>
          <p:cNvSpPr/>
          <p:nvPr/>
        </p:nvSpPr>
        <p:spPr>
          <a:xfrm>
            <a:off x="8613720" y="50720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1200</a:t>
            </a:r>
            <a:endParaRPr b="0" lang="en-US" sz="1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2" name=""/>
          <p:cNvSpPr/>
          <p:nvPr/>
        </p:nvSpPr>
        <p:spPr>
          <a:xfrm>
            <a:off x="8613720" y="50720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1600</a:t>
            </a:r>
            <a:endParaRPr b="0" lang="en-US" sz="16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3" name=""/>
          <p:cNvSpPr/>
          <p:nvPr/>
        </p:nvSpPr>
        <p:spPr>
          <a:xfrm>
            <a:off x="4203720" y="3137040"/>
            <a:ext cx="1633680" cy="490320"/>
          </a:xfrm>
          <a:custGeom>
            <a:avLst/>
            <a:gdLst/>
            <a:ahLst/>
            <a:rect l="l" t="t" r="r" b="b"/>
            <a:pathLst>
              <a:path w="2097" h="645">
                <a:moveTo>
                  <a:pt x="0" y="0"/>
                </a:moveTo>
                <a:lnTo>
                  <a:pt x="2097" y="3"/>
                </a:lnTo>
                <a:lnTo>
                  <a:pt x="2097" y="645"/>
                </a:lnTo>
                <a:lnTo>
                  <a:pt x="0" y="0"/>
                </a:lnTo>
                <a:close/>
              </a:path>
            </a:pathLst>
          </a:cu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4" name=""/>
          <p:cNvSpPr/>
          <p:nvPr/>
        </p:nvSpPr>
        <p:spPr>
          <a:xfrm>
            <a:off x="4184640" y="3139920"/>
            <a:ext cx="1660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5" name=""/>
          <p:cNvSpPr/>
          <p:nvPr/>
        </p:nvSpPr>
        <p:spPr>
          <a:xfrm>
            <a:off x="4206960" y="3138480"/>
            <a:ext cx="1641240" cy="500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6" name=""/>
          <p:cNvSpPr/>
          <p:nvPr/>
        </p:nvSpPr>
        <p:spPr>
          <a:xfrm>
            <a:off x="4186080" y="3141720"/>
            <a:ext cx="165420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UIType"/>
            </a:endParaRPr>
          </a:p>
        </p:txBody>
      </p:sp>
      <p:sp>
        <p:nvSpPr>
          <p:cNvPr id="587" name=""/>
          <p:cNvSpPr/>
          <p:nvPr/>
        </p:nvSpPr>
        <p:spPr>
          <a:xfrm>
            <a:off x="3938760" y="1074600"/>
            <a:ext cx="4981320" cy="763560"/>
          </a:xfrm>
          <a:prstGeom prst="wedgeRectCallout">
            <a:avLst>
              <a:gd name="adj1" fmla="val 25527"/>
              <a:gd name="adj2" fmla="val 16111"/>
            </a:avLst>
          </a:prstGeom>
          <a:solidFill>
            <a:srgbClr val="ffff66">
              <a:alpha val="4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33"/>
                </a:solidFill>
                <a:uFillTx/>
                <a:latin typeface="Arial"/>
              </a:rPr>
              <a:t>Note :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The MCP selected vertical speed line may show on one pilot’s VSD and not on the other pilot’s display, if that F/D side has 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[G/S]</a:t>
            </a:r>
            <a:r>
              <a:rPr b="0" lang="en-US" sz="1200" spc="-1" strike="noStrike">
                <a:solidFill>
                  <a:srgbClr val="996633"/>
                </a:solidFill>
                <a:latin typeface="Arial"/>
              </a:rPr>
              <a:t> captured.</a:t>
            </a: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UIType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08:15:59Z</dcterms:created>
  <dc:creator>Podhaje</dc:creator>
  <dc:description/>
  <cp:keywords/>
  <dc:language>en-US</dc:language>
  <cp:lastModifiedBy>Pat BOONE</cp:lastModifiedBy>
  <cp:lastPrinted>2002-09-11T06:12:13Z</cp:lastPrinted>
  <dcterms:modified xsi:type="dcterms:W3CDTF">2007-07-31T16:00:05Z</dcterms:modified>
  <cp:revision>558</cp:revision>
  <dc:subject/>
  <dc:title>xxxxxx</dc:title>
</cp:coreProperties>
</file>